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31.jpeg" ContentType="image/jpeg"/>
  <Override PartName="/ppt/media/image38.jpeg" ContentType="image/jpeg"/>
  <Override PartName="/ppt/media/image28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6.jpeg" ContentType="image/jpe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3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ldImg"/>
          </p:nvPr>
        </p:nvSpPr>
        <p:spPr>
          <a:xfrm>
            <a:off x="922320" y="749160"/>
            <a:ext cx="4989600" cy="374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body"/>
          </p:nvPr>
        </p:nvSpPr>
        <p:spPr>
          <a:xfrm>
            <a:off x="911160" y="4739760"/>
            <a:ext cx="5011920" cy="4489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dt" idx="4"/>
          </p:nvPr>
        </p:nvSpPr>
        <p:spPr>
          <a:xfrm>
            <a:off x="3873600" y="-36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5"/>
          </p:nvPr>
        </p:nvSpPr>
        <p:spPr>
          <a:xfrm>
            <a:off x="0" y="948024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6"/>
          </p:nvPr>
        </p:nvSpPr>
        <p:spPr>
          <a:xfrm>
            <a:off x="3873600" y="948024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FF985-B2B3-485C-A78A-F87B17568DD3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22320" y="749160"/>
            <a:ext cx="4989600" cy="37418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1160" y="4739760"/>
            <a:ext cx="5011920" cy="4489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40EFC-F6B2-47A8-8051-8B07C46B180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3873600" y="94806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585FF-8671-4008-9A6B-BD041DD5C6F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73600" y="94806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CC483-6E6F-4BF8-8AB2-C440CFD2E22D}" type="slidenum">
              <a:rPr b="0" lang="ru-RU" sz="1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23760" y="747720"/>
            <a:ext cx="4986360" cy="37418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2200" y="4738680"/>
            <a:ext cx="54673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22320" y="749160"/>
            <a:ext cx="4989600" cy="37418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1160" y="4739760"/>
            <a:ext cx="50119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3873600" y="94806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FE8FA-8206-4431-BFFB-C4203D7ACD1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22320" y="749160"/>
            <a:ext cx="4989600" cy="37418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1160" y="4739760"/>
            <a:ext cx="50119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73600" y="94806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ED805-9D28-44A1-B90B-4AF91F1D468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889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6880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889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6880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F18D-0A7C-4091-B08F-379D95CB3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A1AB-0DC1-4137-9E9A-73648B2A8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7316-5AF8-4ADC-A155-57E94CFFA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D0B3-8A40-49A9-9C63-36CE6DED9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AFE3-006A-4647-94D5-07AC7C209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406520" y="1295280"/>
            <a:ext cx="73152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4665-FA15-41EA-BD48-2F2362249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B3D7-C3C5-451A-9504-DE43B1CD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45A4-EF28-4B97-A4DF-DB0961D2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10D2-A488-40FF-8BFA-AE54AEF1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751F-D39B-4F85-BA27-C55228AE3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722C-020F-41C8-B4DE-663E278CD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89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6880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09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889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6880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B130-085E-45B6-A707-ABDDAB048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406520" y="1295280"/>
            <a:ext cx="73152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889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880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09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889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880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406520" y="1295280"/>
            <a:ext cx="73152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028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06520" y="1281240"/>
            <a:ext cx="73152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4200120"/>
            <a:ext cx="7925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0" descr="slayd"/>
          <p:cNvPicPr/>
          <p:nvPr/>
        </p:nvPicPr>
        <p:blipFill>
          <a:blip r:embed="rId2"/>
          <a:srcRect l="16686" t="0" r="0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06520" y="1295280"/>
            <a:ext cx="7315200" cy="60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199880" indent="-1713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3E3AC-706B-4C7B-99FF-2E8A340FA74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047" descr="slayd_tit_down"/>
          <p:cNvPicPr/>
          <p:nvPr/>
        </p:nvPicPr>
        <p:blipFill>
          <a:blip r:embed="rId2"/>
          <a:stretch/>
        </p:blipFill>
        <p:spPr>
          <a:xfrm>
            <a:off x="0" y="6324480"/>
            <a:ext cx="9144000" cy="533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48" descr="slayd"/>
          <p:cNvPicPr/>
          <p:nvPr/>
        </p:nvPicPr>
        <p:blipFill>
          <a:blip r:embed="rId3"/>
          <a:srcRect l="0" t="0" r="12262" b="0"/>
          <a:stretch/>
        </p:blipFill>
        <p:spPr>
          <a:xfrm>
            <a:off x="0" y="0"/>
            <a:ext cx="9144000" cy="147636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06520" y="1295280"/>
            <a:ext cx="7315200" cy="60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2209680"/>
            <a:ext cx="7925040" cy="3810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199880" indent="-1713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jpe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jpeg"/><Relationship Id="rId6" Type="http://schemas.openxmlformats.org/officeDocument/2006/relationships/image" Target="../media/image37.png"/><Relationship Id="rId7" Type="http://schemas.openxmlformats.org/officeDocument/2006/relationships/image" Target="../media/image3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684360" y="1571760"/>
            <a:ext cx="7704000" cy="43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«Построение коммерческой инфраструктуры рынка в сфере грузовых железнодорожных перевозок»</a:t>
            </a:r>
            <a:br>
              <a:rPr sz="20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С России</a:t>
            </a: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6"/>
          <p:cNvSpPr/>
          <p:nvPr/>
        </p:nvSpPr>
        <p:spPr>
          <a:xfrm>
            <a:off x="214200" y="0"/>
            <a:ext cx="878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Р - универсальный институт торговли различными вида ресурсами в сфере организации железнодорожных перевоз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латформе КИР может развиваться коммерческая инфраструктура различных рынков, 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ынка предоставления вагонов («торговая площадка вагонов») и, ка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ная от этого рынка, либо как самостоятельный элемент – рынок долгосрочной аренды вагон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ынка предоставления путей общего и необщего пользования для размещения вагонов («торговая площадка услуг по «отстою вагонов»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ынка локомотивной тяги (в долгосрочной перспективе, после либерализации этого рынк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ынка экспедиторских услуг (который может быть интегратором услуг с «соседних» рынков, например вагонного, с добавлением дополнительных иных услуг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ынка услуг по ремонту вагонов, торговли годными или забракованными деталями или запчастями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4320" rIns="94320" tIns="47160" bIns="471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 участников Коммерческой инфраструктуры ры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1"/>
          <p:cNvSpPr/>
          <p:nvPr/>
        </p:nvSpPr>
        <p:spPr>
          <a:xfrm>
            <a:off x="4859280" y="1376280"/>
            <a:ext cx="1763640" cy="503280"/>
          </a:xfrm>
          <a:prstGeom prst="rect">
            <a:avLst/>
          </a:prstGeom>
          <a:solidFill>
            <a:srgbClr val="115606"/>
          </a:solidFill>
          <a:ln w="22320">
            <a:solidFill>
              <a:srgbClr val="f1b60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f1b60f"/>
                </a:solidFill>
                <a:latin typeface="Arial"/>
              </a:rPr>
              <a:t>Информационная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f1b60f"/>
                </a:solidFill>
                <a:latin typeface="Arial"/>
              </a:rPr>
              <a:t> </a:t>
            </a:r>
            <a:r>
              <a:rPr b="1" lang="ru-RU" sz="1100" spc="-1" strike="noStrike">
                <a:solidFill>
                  <a:srgbClr val="f1b60f"/>
                </a:solidFill>
                <a:latin typeface="Arial"/>
              </a:rPr>
              <a:t>площадка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2"/>
          <p:cNvSpPr/>
          <p:nvPr/>
        </p:nvSpPr>
        <p:spPr>
          <a:xfrm>
            <a:off x="2698920" y="1374840"/>
            <a:ext cx="1800000" cy="504720"/>
          </a:xfrm>
          <a:prstGeom prst="rect">
            <a:avLst/>
          </a:prstGeom>
          <a:solidFill>
            <a:srgbClr val="115606"/>
          </a:solidFill>
          <a:ln w="22320">
            <a:solidFill>
              <a:srgbClr val="f1b60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f1b60f"/>
                </a:solidFill>
                <a:latin typeface="Arial"/>
              </a:rPr>
              <a:t>Торговая площадка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4"/>
          <p:cNvSpPr/>
          <p:nvPr/>
        </p:nvSpPr>
        <p:spPr>
          <a:xfrm>
            <a:off x="250920" y="3392640"/>
            <a:ext cx="2016000" cy="684000"/>
          </a:xfrm>
          <a:prstGeom prst="rect">
            <a:avLst/>
          </a:prstGeom>
          <a:solidFill>
            <a:srgbClr val="c0c0c0"/>
          </a:solidFill>
          <a:ln w="22320">
            <a:solidFill>
              <a:srgbClr val="d5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алата пользователей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услугами ж/д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транспорта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5"/>
          <p:cNvSpPr/>
          <p:nvPr/>
        </p:nvSpPr>
        <p:spPr>
          <a:xfrm>
            <a:off x="250920" y="2637000"/>
            <a:ext cx="2014560" cy="718920"/>
          </a:xfrm>
          <a:prstGeom prst="rect">
            <a:avLst/>
          </a:prstGeom>
          <a:solidFill>
            <a:srgbClr val="c0c0c0"/>
          </a:solidFill>
          <a:ln w="22320">
            <a:solidFill>
              <a:srgbClr val="d5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алата ж/д перевозчик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6"/>
          <p:cNvSpPr/>
          <p:nvPr/>
        </p:nvSpPr>
        <p:spPr>
          <a:xfrm>
            <a:off x="250920" y="1879560"/>
            <a:ext cx="2014560" cy="720720"/>
          </a:xfrm>
          <a:prstGeom prst="rect">
            <a:avLst/>
          </a:prstGeom>
          <a:solidFill>
            <a:srgbClr val="c0c0c0"/>
          </a:solidFill>
          <a:ln w="22320">
            <a:solidFill>
              <a:srgbClr val="d5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алата владельцев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нфраструктуры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27"/>
          <p:cNvSpPr/>
          <p:nvPr/>
        </p:nvSpPr>
        <p:spPr>
          <a:xfrm>
            <a:off x="250920" y="1052640"/>
            <a:ext cx="2016000" cy="792000"/>
          </a:xfrm>
          <a:prstGeom prst="rect">
            <a:avLst/>
          </a:prstGeom>
          <a:solidFill>
            <a:srgbClr val="c0c0c0"/>
          </a:solidFill>
          <a:ln w="22320">
            <a:solidFill>
              <a:srgbClr val="d5d9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алата операторов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одвижного состава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28"/>
          <p:cNvSpPr/>
          <p:nvPr/>
        </p:nvSpPr>
        <p:spPr>
          <a:xfrm>
            <a:off x="3562200" y="2744640"/>
            <a:ext cx="2411640" cy="1258920"/>
          </a:xfrm>
          <a:prstGeom prst="rect">
            <a:avLst/>
          </a:prstGeom>
          <a:solidFill>
            <a:srgbClr val="115606"/>
          </a:solidFill>
          <a:ln w="19080">
            <a:solidFill>
              <a:srgbClr val="f1b6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f1b60f"/>
                </a:solidFill>
                <a:latin typeface="Arial"/>
              </a:rPr>
              <a:t>Наблюдательны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f1b60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1b60f"/>
                </a:solidFill>
                <a:latin typeface="Arial"/>
              </a:rPr>
              <a:t>Сове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30"/>
          <p:cNvSpPr/>
          <p:nvPr/>
        </p:nvSpPr>
        <p:spPr>
          <a:xfrm>
            <a:off x="6804000" y="1125360"/>
            <a:ext cx="2340000" cy="2880000"/>
          </a:xfrm>
          <a:prstGeom prst="rect">
            <a:avLst/>
          </a:prstGeom>
          <a:solidFill>
            <a:srgbClr val="c0c0c0"/>
          </a:solidFill>
          <a:ln w="22320">
            <a:solidFill>
              <a:srgbClr val="1156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ПАЛАТА ПРЕДСТАВИТЕЛЕ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ГОСУДАРСТВ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ФА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ФС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Минтран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Мин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Госдум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115606"/>
                </a:solidFill>
                <a:latin typeface="Arial"/>
              </a:rPr>
              <a:t>Совет Федер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Line 35"/>
          <p:cNvSpPr/>
          <p:nvPr/>
        </p:nvSpPr>
        <p:spPr>
          <a:xfrm>
            <a:off x="2266920" y="2995560"/>
            <a:ext cx="1260360" cy="468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Line 36"/>
          <p:cNvSpPr/>
          <p:nvPr/>
        </p:nvSpPr>
        <p:spPr>
          <a:xfrm>
            <a:off x="2266920" y="2276640"/>
            <a:ext cx="1260360" cy="971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37"/>
          <p:cNvSpPr/>
          <p:nvPr/>
        </p:nvSpPr>
        <p:spPr>
          <a:xfrm>
            <a:off x="2230560" y="1628640"/>
            <a:ext cx="1296720" cy="1403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41"/>
          <p:cNvSpPr/>
          <p:nvPr/>
        </p:nvSpPr>
        <p:spPr>
          <a:xfrm flipH="1">
            <a:off x="5975280" y="2421000"/>
            <a:ext cx="828720" cy="863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44"/>
          <p:cNvSpPr/>
          <p:nvPr/>
        </p:nvSpPr>
        <p:spPr>
          <a:xfrm>
            <a:off x="395280" y="4292640"/>
            <a:ext cx="8424720" cy="20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177840" indent="-177840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f1b60f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f1b60f"/>
                </a:solidFill>
                <a:latin typeface="Arial"/>
              </a:rPr>
              <a:t>Принципы формирования Палат и Наблюдательного Совет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 Палаты формируется по  принципу  «одна палата для каждой группы  участников рынка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 Количество членов каждой Палаты не ограничено и не влияет на число голосов в Наблюдательном Совет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 Наблюдательный Совет формируется из представителей палат при соблюдении баланса интересов между покупателями (6 членов) и продавцами (по 2 члена от каждой палаты) услуг ж/д транспорт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 Государство имеет своих представителей в Наблюдательном Совете (по 1 члену от каждого органа власти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5. Каждая палата, а также представители государства имеют право вета, которое преодолевается 2/3 от общего числа  голосов в Наблюдательном Совет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34"/>
          <p:cNvSpPr/>
          <p:nvPr/>
        </p:nvSpPr>
        <p:spPr>
          <a:xfrm>
            <a:off x="2266920" y="3716280"/>
            <a:ext cx="126036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960" rIns="9396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00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сть законодательного закрепления созданий коммерческой инфраструктуры ры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0" y="1341360"/>
            <a:ext cx="8856720" cy="47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457200" indent="-457200" algn="just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иквидация инвентарного парка подвижного состава требует изменения нормативно-правового и ценового регулирования в виду ограниченных возможностей государственного контроля в сфере рыночных отношений субъектов хозяйственной деятельно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тсутствие регулирования приведет к ущемлению интересов мелких продавцов услуг железнодорожного транспорта крупными  и фактической монополизации рынка отдельными «игроками»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spcBef>
                <a:spcPts val="938"/>
              </a:spcBef>
              <a:buClr>
                <a:srgbClr val="000000"/>
              </a:buClr>
              <a:buFont typeface="Arial"/>
              <a:buAutoNum type="arabicPeriod"/>
              <a:tabLst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еры антимонопольного воздействия могут оказаться не достаточно эффективными в виду длительности/сложности процедуры их реализации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Необходимо создать систему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ОРЕГУЛИРОВАНИЯ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взаимодействий участников рынка на базе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некоммерческой организации,  обеспечивающей соблюдение баланса интересов продавцов и покупателей при участи федеральных органов исполнительной вла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ля объединения большинства участников рынка  в рамках организаци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которая возьмет на себя функции коммерческой  инфраструктуры рынка необходима соответствующая мотивация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обенно для крупных «игроков» на первоначальном этап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анную задачу  может решить только государство путем законодательного закрепления обязанности субъектов рынка создать/участвовать в работе оператора торговой системы (биржи) и других организаций коммерческой инфраструктуры рынка услуг ж/д транспорт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Заголовок 1"/>
          <p:cNvSpPr/>
          <p:nvPr/>
        </p:nvSpPr>
        <p:spPr>
          <a:xfrm>
            <a:off x="0" y="1429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сть внесений изменений законодательства в сфере железнодорожного транспо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0" y="1071720"/>
          <a:ext cx="9144000" cy="5786280"/>
        </p:xfrm>
        <a:graphic>
          <a:graphicData uri="http://schemas.openxmlformats.org/drawingml/2006/table">
            <a:tbl>
              <a:tblPr/>
              <a:tblGrid>
                <a:gridCol w="5929200"/>
                <a:gridCol w="3214800"/>
              </a:tblGrid>
              <a:tr h="684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ения в закон № ФЗ-17 от 10.01.2003 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О железнодорожном транспорте в Российской Федерации»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f7f7f"/>
                        </a:gs>
                        <a:gs pos="100000">
                          <a:srgbClr val="faeddd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 измен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a3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тья зако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a3a3"/>
                    </a:soli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ринципов сертификации услуг перевозчиков грузов железнодорожным транспортом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я № 6, пункт 5 дополнительный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73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равовых основ формирования товарных рынков в сфере железнодорожного транспорта в целом и железнодорожных перевозок грузов, в частности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ая статья.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ru-RU" sz="13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равовых основ саморегулирования и сорегулирования условий оборота услуг по перевозкам грузов железнодорожным транспортом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ая статья.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ru-RU" sz="13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94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орядка выделения из общей массы услуг, оказываемых субъектом (субъектами) естественной монополии в сфере грузовых железнодорожных перевозок, таких услуг, оборот которых фактически осуществляется в условиях конкуренции, в том числе, при наличии доминирования некоторых субъекто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я 8, п. 11, дополнительный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52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орядка дерегулирования тарифов (цен) на услуги, оборот которых осуществляется не в естественно-монопольной, а в конкурентной сфере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я 8, п. 12, дополнительный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73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равовых основ реализации услуг по перевозкам грузов железнодорожным транспортом и связанных с ними услуг при помощи организованных торго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ая статья.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ru-RU" sz="13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онятия «гарантирующего перевозчика» применительно к оказанию услуг по перевозкам грузов, оборот которых осуществляется в конкурентном сегменте рынка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я № 12,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нкт 5, дополнительный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сть внесений изменений законодательства в сфере железнодорожного транспорта (продолж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0" y="1071720"/>
          <a:ext cx="9144000" cy="5814720"/>
        </p:xfrm>
        <a:graphic>
          <a:graphicData uri="http://schemas.openxmlformats.org/drawingml/2006/table">
            <a:tbl>
              <a:tblPr/>
              <a:tblGrid>
                <a:gridCol w="5929200"/>
                <a:gridCol w="3214800"/>
              </a:tblGrid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ения в закон № ФЗ-18 от 10.01.2003  «Устав железнодорожного транспорта РФ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f7f7f"/>
                        </a:gs>
                        <a:gs pos="100000">
                          <a:srgbClr val="faeddd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 измен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a3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тья зако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a3a3"/>
                    </a:solidFill>
                  </a:tcPr>
                </a:tc>
              </a:tr>
              <a:tr h="101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орядка распределения среди перевозчиков (квотирования) объемов перевозок грузов, не относящихся к конкурентному сегменту рынка, в случаях ограничения грузоотправителей в доступе к услугам по перевозкам железнодорожным транспортом в связи с установлением регулярного грузового движ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я № 11, абзац 35, дополнительны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64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лючение варианта заключения договора перевозки между перевозчиком и грузоотправителем на основании сделки, заключенной по оферте перевозчика, в том числе, с помощью организованных торг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я № 11, абзац 36, дополнительны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64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лючение варианта предоставления грузовых вагонов оператором во фрахт перевозчику на основании сделки, заключенной при помощи организованных торг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ая статья № 11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83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лючение варианта занятия железнодорожных путей общего, а также железнодорожных путей необщего пользования временно не используемыми грузовыми вагонами, не принадлежащими владельцам указанных путей, на основании сделки, заключенной при помощи организованных торг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ая статья № 11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83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основных признаков перевозок грузов регулярными грузовыми поездами (регулярного грузового движения)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лючение в перечень вариантов железнодорожных отправок грузов «отправок в составе регулярного грузового поезда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ая статья к действующему закону № 13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82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равовых основ предоставления ресурсов инфраструктуры железнодорожного транспорта общего пользования для осуществления перевозок грузов регулярными грузовыми поездами (для регулярного грузового движения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я № 50,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зацы 10, 11, 12, 13 дополнительны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Заголовок 1"/>
          <p:cNvSpPr/>
          <p:nvPr/>
        </p:nvSpPr>
        <p:spPr>
          <a:xfrm>
            <a:off x="0" y="1429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сть внесений изменений законодательства в сфере железнодорожного транспорта (продолжени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0" y="1143000"/>
          <a:ext cx="9144000" cy="5572080"/>
        </p:xfrm>
        <a:graphic>
          <a:graphicData uri="http://schemas.openxmlformats.org/drawingml/2006/table">
            <a:tbl>
              <a:tblPr/>
              <a:tblGrid>
                <a:gridCol w="3929040"/>
                <a:gridCol w="5214960"/>
              </a:tblGrid>
              <a:tr h="735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ения, предлагаемые в Положение об Общем тарифном съезде транспортник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f7f7f"/>
                        </a:gs>
                        <a:gs pos="100000">
                          <a:srgbClr val="faeddd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рмы Полож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a3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 измен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3a3a3"/>
                    </a:solidFill>
                  </a:tcPr>
                </a:tc>
              </a:tr>
              <a:tr h="167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и проведения Тарифного съез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ю Тарифного съезда является, в том числе, обеспечение всестороннего рассмотрения вопросов, связанных с формированием коммерческой инфраструктуры рынка перевозок и связанных с ними услу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199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хват Тарифным съездом отраслей транспортно-дорожного комплекс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рифные съезды могут созываться , в том числе, и по отдельным отраслям транспортно-дорожного комплекса (железнодорожному, морскому, речному, автомобильному, авиационному видам транспорта, а также строительству объектов транспортной инфраструктуры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74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ядок созыва Тарифных съезд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рифные съезды созываются Министерством транспорта РФ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мероприятий по созданию НП «Совет рынка железнодорожного транспорта» (НП «Совет РЖТ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0" y="1071720"/>
          <a:ext cx="9144000" cy="5784840"/>
        </p:xfrm>
        <a:graphic>
          <a:graphicData uri="http://schemas.openxmlformats.org/drawingml/2006/table">
            <a:tbl>
              <a:tblPr/>
              <a:tblGrid>
                <a:gridCol w="428760"/>
                <a:gridCol w="5072040"/>
                <a:gridCol w="3643200"/>
              </a:tblGrid>
              <a:tr h="390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b4a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 мероприят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b4a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ветственные исполнител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b4aa"/>
                    </a:solidFill>
                  </a:tcPr>
                </a:tc>
              </a:tr>
              <a:tr h="760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Рабочей группы по созданию НП «Совет РЖТ»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экономразвития РФ, Минтранс РФ, ФАС России, ОАО «РЖД», Национальная ассоциации транспортников, др. заинтересованные организации и компан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577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лечение финансирования работ по созданию НП «Совет РЖТ» за счет средств заинтересованных организаций и объединений предпринимателей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экономразвития РФ, Минтранс РФ, ФАС России, ОАО «РЖД», ОПОРА РОССИИ, АСКОП, др. заинтересованные организации и компан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390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реждение и регистрация НП «Совет РЖТ»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и и компании, выступающие учредителями НП «Совет РЖТ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390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палат и рабочих органов НП «Совет РЖТ», прием новых членов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и и компании, выступающие учредителями НП «Совет РЖТ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2119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и реализация программного комплекса для отработки организованных торгов и внебиржевых торгов на площадке НП «Совет РЖТ» в том числе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Разработка алгоритмов (сценария) имитационных торгов на площадке НП «Совет РЖТ» на товарных секциях организованных торгов и внебиржевых торгов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Отработка, проверка и сдача программных комплексов, имитирующих торги услугами по перевозкам грузов и иными связанными с ними услугами на товарных секциях НП «Совет РЖТ»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Учреждение площадки НП «Совет  РЖТ»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С России, Национальная ассоциации транспортников, ОАО «РЖД», НП «Совет РЖТ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  <a:tr h="577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организационных документов и регламентов работы исполнительных органов НП «Совет РЖТ»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П «Совет РЖТ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2f1"/>
                    </a:solidFill>
                  </a:tcPr>
                </a:tc>
              </a:tr>
              <a:tr h="578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и согласование изменений в План мероприятий по реализации Целевой модели рынка грузовых железнодорожных перевозок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экономразвития РФ, Минтранс РФ, ФАС России, НП «Совет РЖТ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5e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цензия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Содержимое 2" descr=""/>
          <p:cNvPicPr/>
          <p:nvPr/>
        </p:nvPicPr>
        <p:blipFill>
          <a:blip r:embed="rId1"/>
          <a:stretch/>
        </p:blipFill>
        <p:spPr>
          <a:xfrm>
            <a:off x="-6480" y="1139760"/>
            <a:ext cx="9156960" cy="5724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43" name="Изображение 1" descr="1401277453-3429.png"/>
          <p:cNvPicPr/>
          <p:nvPr/>
        </p:nvPicPr>
        <p:blipFill>
          <a:blip r:embed="rId2"/>
          <a:stretch/>
        </p:blipFill>
        <p:spPr>
          <a:xfrm>
            <a:off x="3851280" y="5084640"/>
            <a:ext cx="1415880" cy="14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Прямоугольник 39"/>
          <p:cNvSpPr/>
          <p:nvPr/>
        </p:nvSpPr>
        <p:spPr>
          <a:xfrm>
            <a:off x="900000" y="2997360"/>
            <a:ext cx="7559640" cy="3744720"/>
          </a:xfrm>
          <a:prstGeom prst="rect">
            <a:avLst/>
          </a:prstGeom>
          <a:solidFill>
            <a:srgbClr val="29abd6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856800" y="1341360"/>
            <a:ext cx="753588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огика программного продукта построена по примеру уже существующих интернет-услуг, таких как продажа авиабилетов, бронь номера в гостинице или покупка товаров в интернет магазинах, что уже очень давно используется широким кругом людей для покупки услу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3920" indent="-3139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ходя из этого, основной критерий модуля при его создании – легкость в работе, доступн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3920" indent="-3139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моду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Схема 10" descr=""/>
          <p:cNvPicPr/>
          <p:nvPr/>
        </p:nvPicPr>
        <p:blipFill>
          <a:blip r:embed="rId1"/>
          <a:stretch/>
        </p:blipFill>
        <p:spPr>
          <a:xfrm>
            <a:off x="1828800" y="3024360"/>
            <a:ext cx="5559480" cy="1633320"/>
          </a:xfrm>
          <a:prstGeom prst="rect">
            <a:avLst/>
          </a:prstGeom>
          <a:ln w="0">
            <a:noFill/>
          </a:ln>
        </p:spPr>
      </p:pic>
      <p:sp>
        <p:nvSpPr>
          <p:cNvPr id="248" name="Магнитный диск 12"/>
          <p:cNvSpPr/>
          <p:nvPr/>
        </p:nvSpPr>
        <p:spPr>
          <a:xfrm>
            <a:off x="3780000" y="5013360"/>
            <a:ext cx="1584000" cy="1655640"/>
          </a:xfrm>
          <a:prstGeom prst="flowChartMagneticDisk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АЗА ДАН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9" name="Прямая со стрелкой 14"/>
          <p:cNvCxnSpPr>
            <a:stCxn id="248" idx="1"/>
            <a:endCxn id="248" idx="1"/>
          </p:cNvCxnSpPr>
          <p:nvPr/>
        </p:nvCxnSpPr>
        <p:spPr>
          <a:xfrm>
            <a:off x="4571640" y="501300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50" name="Прямая со стрелкой 17"/>
          <p:cNvCxnSpPr>
            <a:endCxn id="248" idx="1"/>
          </p:cNvCxnSpPr>
          <p:nvPr/>
        </p:nvCxnSpPr>
        <p:spPr>
          <a:xfrm>
            <a:off x="4571640" y="4508640"/>
            <a:ext cx="1080" cy="505440"/>
          </a:xfrm>
          <a:prstGeom prst="straightConnector1">
            <a:avLst/>
          </a:prstGeom>
          <a:ln w="38160">
            <a:solidFill>
              <a:srgbClr val="aab4aa"/>
            </a:solidFill>
            <a:miter/>
            <a:tailEnd len="med" type="triangle" w="med"/>
          </a:ln>
        </p:spPr>
      </p:cxnSp>
      <p:cxnSp>
        <p:nvCxnSpPr>
          <p:cNvPr id="251" name="Соединительная линия уступом 22"/>
          <p:cNvCxnSpPr>
            <a:stCxn id="248" idx="4"/>
          </p:cNvCxnSpPr>
          <p:nvPr/>
        </p:nvCxnSpPr>
        <p:spPr>
          <a:xfrm flipV="1">
            <a:off x="5363640" y="4652280"/>
            <a:ext cx="1080360" cy="1189800"/>
          </a:xfrm>
          <a:prstGeom prst="bentConnector2">
            <a:avLst/>
          </a:prstGeom>
          <a:ln w="38160">
            <a:solidFill>
              <a:srgbClr val="aab4aa"/>
            </a:solidFill>
            <a:miter/>
            <a:tailEnd len="med" type="triangle" w="med"/>
          </a:ln>
        </p:spPr>
      </p:cxnSp>
      <p:cxnSp>
        <p:nvCxnSpPr>
          <p:cNvPr id="252" name="Соединительная линия уступом 30"/>
          <p:cNvCxnSpPr>
            <a:stCxn id="248" idx="2"/>
          </p:cNvCxnSpPr>
          <p:nvPr/>
        </p:nvCxnSpPr>
        <p:spPr>
          <a:xfrm rot="10800000">
            <a:off x="2770920" y="4580640"/>
            <a:ext cx="1008720" cy="1261440"/>
          </a:xfrm>
          <a:prstGeom prst="bentConnector2">
            <a:avLst/>
          </a:prstGeom>
          <a:ln w="38160">
            <a:solidFill>
              <a:srgbClr val="aab4aa"/>
            </a:solidFill>
            <a:miter/>
            <a:tailEnd len="med" type="triangle" w="med"/>
          </a:ln>
        </p:spPr>
      </p:cxnSp>
      <p:sp>
        <p:nvSpPr>
          <p:cNvPr id="253" name="TextBox 32"/>
          <p:cNvSpPr/>
          <p:nvPr/>
        </p:nvSpPr>
        <p:spPr>
          <a:xfrm>
            <a:off x="1192320" y="4941720"/>
            <a:ext cx="144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прос данны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Box 33"/>
          <p:cNvSpPr/>
          <p:nvPr/>
        </p:nvSpPr>
        <p:spPr>
          <a:xfrm>
            <a:off x="6521400" y="4941720"/>
            <a:ext cx="144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прос данны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Box 34"/>
          <p:cNvSpPr/>
          <p:nvPr/>
        </p:nvSpPr>
        <p:spPr>
          <a:xfrm>
            <a:off x="3713760" y="4653000"/>
            <a:ext cx="165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несение данны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Box 36"/>
          <p:cNvSpPr/>
          <p:nvPr/>
        </p:nvSpPr>
        <p:spPr>
          <a:xfrm rot="16200000">
            <a:off x="906840" y="3564720"/>
            <a:ext cx="151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РОВНИ ДОСТУП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7" name="TextBox 37"/>
          <p:cNvGrpSpPr/>
          <p:nvPr/>
        </p:nvGrpSpPr>
        <p:grpSpPr>
          <a:xfrm>
            <a:off x="5724360" y="6053040"/>
            <a:ext cx="3211560" cy="420840"/>
            <a:chOff x="5724360" y="6053040"/>
            <a:chExt cx="3211560" cy="420840"/>
          </a:xfrm>
        </p:grpSpPr>
        <p:pic>
          <p:nvPicPr>
            <p:cNvPr id="258" name="TextBox 37" descr=""/>
            <p:cNvPicPr/>
            <p:nvPr/>
          </p:nvPicPr>
          <p:blipFill>
            <a:blip r:embed="rId2"/>
            <a:stretch/>
          </p:blipFill>
          <p:spPr>
            <a:xfrm>
              <a:off x="5724360" y="6053040"/>
              <a:ext cx="321156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5788080" y="6093000"/>
              <a:ext cx="3099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КОНТРОЛЬ АДМИНИСТРАТОРОМ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5579640" y="1699920"/>
            <a:ext cx="3313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рта является первоочередным меню для грузовладельцев. С ее помощью, они с легкостью могут посмотреть загруженность близлежащих подъездных путей и найти необходимый для погрузки тип подвижного состав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ладельцы подвижного состава с помощью карты смогут определить ближайший к их вагону путь необщего пользования и приобрести емкость на отстой ваго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Заголовок 1"/>
          <p:cNvSpPr/>
          <p:nvPr/>
        </p:nvSpPr>
        <p:spPr>
          <a:xfrm>
            <a:off x="0" y="1429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Основа модуля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интерактивная карта железных доро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Picture 3" descr=""/>
          <p:cNvPicPr/>
          <p:nvPr/>
        </p:nvPicPr>
        <p:blipFill>
          <a:blip r:embed="rId1"/>
          <a:stretch/>
        </p:blipFill>
        <p:spPr>
          <a:xfrm>
            <a:off x="195120" y="1432080"/>
            <a:ext cx="5364360" cy="3352680"/>
          </a:xfrm>
          <a:prstGeom prst="rect">
            <a:avLst/>
          </a:prstGeom>
          <a:ln w="0">
            <a:noFill/>
          </a:ln>
        </p:spPr>
      </p:pic>
      <p:pic>
        <p:nvPicPr>
          <p:cNvPr id="263" name="Прямая соединительная линия 6" descr=""/>
          <p:cNvPicPr/>
          <p:nvPr/>
        </p:nvPicPr>
        <p:blipFill>
          <a:blip r:embed="rId2"/>
          <a:stretch/>
        </p:blipFill>
        <p:spPr>
          <a:xfrm>
            <a:off x="1384200" y="3260880"/>
            <a:ext cx="468360" cy="330120"/>
          </a:xfrm>
          <a:prstGeom prst="rect">
            <a:avLst/>
          </a:prstGeom>
          <a:ln w="0">
            <a:noFill/>
          </a:ln>
        </p:spPr>
      </p:pic>
      <p:sp>
        <p:nvSpPr>
          <p:cNvPr id="264" name="Прямая соединительная линия 9"/>
          <p:cNvSpPr/>
          <p:nvPr/>
        </p:nvSpPr>
        <p:spPr>
          <a:xfrm flipH="1">
            <a:off x="1332000" y="3284640"/>
            <a:ext cx="503280" cy="360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Box 10"/>
          <p:cNvSpPr/>
          <p:nvPr/>
        </p:nvSpPr>
        <p:spPr>
          <a:xfrm>
            <a:off x="395280" y="3284640"/>
            <a:ext cx="1297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404040"/>
                </a:solidFill>
                <a:latin typeface="Arial"/>
                <a:ea typeface="Arial"/>
              </a:rPr>
              <a:t>Подъездной путь необщего пользования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Схема 11" descr=""/>
          <p:cNvPicPr/>
          <p:nvPr/>
        </p:nvPicPr>
        <p:blipFill>
          <a:blip r:embed="rId3"/>
          <a:stretch/>
        </p:blipFill>
        <p:spPr>
          <a:xfrm>
            <a:off x="1487520" y="3597120"/>
            <a:ext cx="4084560" cy="2548080"/>
          </a:xfrm>
          <a:prstGeom prst="rect">
            <a:avLst/>
          </a:prstGeom>
          <a:ln w="0">
            <a:noFill/>
          </a:ln>
        </p:spPr>
      </p:pic>
      <p:pic>
        <p:nvPicPr>
          <p:cNvPr id="267" name="Изображение 12" descr="img_1404.jpg"/>
          <p:cNvPicPr/>
          <p:nvPr/>
        </p:nvPicPr>
        <p:blipFill>
          <a:blip r:embed="rId4"/>
          <a:stretch/>
        </p:blipFill>
        <p:spPr>
          <a:xfrm>
            <a:off x="2627280" y="1268280"/>
            <a:ext cx="1236600" cy="824040"/>
          </a:xfrm>
          <a:prstGeom prst="rect">
            <a:avLst/>
          </a:prstGeom>
          <a:ln w="0">
            <a:noFill/>
          </a:ln>
        </p:spPr>
      </p:pic>
      <p:sp>
        <p:nvSpPr>
          <p:cNvPr id="268" name="TextBox 13"/>
          <p:cNvSpPr/>
          <p:nvPr/>
        </p:nvSpPr>
        <p:spPr>
          <a:xfrm>
            <a:off x="2268360" y="2133720"/>
            <a:ext cx="19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узовладелец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609480" y="1213920"/>
            <a:ext cx="7925040" cy="480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овещании по вопросам развития угольной промышленности (г. Кемерово, 24.01.2012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В. Путин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формулировал следующую задачу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 целях координации работы и обеспечения баланса интересов участников рынка железнодорожных перевозок необходимо создать саморегулируемую организацию, аналогичную «Совету рынка», который действует в сфере электроэнергетики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Заголовок 1"/>
          <p:cNvSpPr/>
          <p:nvPr/>
        </p:nvSpPr>
        <p:spPr>
          <a:xfrm>
            <a:off x="0" y="1429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Преимущества пользования модул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Изображение 4" descr="UT.120298administrator_512.png"/>
          <p:cNvPicPr/>
          <p:nvPr/>
        </p:nvPicPr>
        <p:blipFill>
          <a:blip r:embed="rId1"/>
          <a:stretch/>
        </p:blipFill>
        <p:spPr>
          <a:xfrm>
            <a:off x="971640" y="1341360"/>
            <a:ext cx="1439640" cy="1440000"/>
          </a:xfrm>
          <a:prstGeom prst="rect">
            <a:avLst/>
          </a:prstGeom>
          <a:ln w="0">
            <a:noFill/>
          </a:ln>
        </p:spPr>
      </p:pic>
      <p:sp>
        <p:nvSpPr>
          <p:cNvPr id="271" name="TextBox 5"/>
          <p:cNvSpPr/>
          <p:nvPr/>
        </p:nvSpPr>
        <p:spPr>
          <a:xfrm>
            <a:off x="395280" y="2708280"/>
            <a:ext cx="25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ладелец подвижного соста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Изображение 6" descr="is_shine_administrator.jpg"/>
          <p:cNvPicPr/>
          <p:nvPr/>
        </p:nvPicPr>
        <p:blipFill>
          <a:blip r:embed="rId2"/>
          <a:stretch/>
        </p:blipFill>
        <p:spPr>
          <a:xfrm>
            <a:off x="3851280" y="1413000"/>
            <a:ext cx="1368360" cy="1295280"/>
          </a:xfrm>
          <a:prstGeom prst="rect">
            <a:avLst/>
          </a:prstGeom>
          <a:ln w="0">
            <a:noFill/>
          </a:ln>
        </p:spPr>
      </p:pic>
      <p:sp>
        <p:nvSpPr>
          <p:cNvPr id="273" name="TextBox 7"/>
          <p:cNvSpPr/>
          <p:nvPr/>
        </p:nvSpPr>
        <p:spPr>
          <a:xfrm>
            <a:off x="3132000" y="2708280"/>
            <a:ext cx="26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рузоотправите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Изображение 8" descr="user vv.png"/>
          <p:cNvPicPr/>
          <p:nvPr/>
        </p:nvPicPr>
        <p:blipFill>
          <a:blip r:embed="rId3"/>
          <a:stretch/>
        </p:blipFill>
        <p:spPr>
          <a:xfrm>
            <a:off x="6732720" y="1341360"/>
            <a:ext cx="1368360" cy="1338480"/>
          </a:xfrm>
          <a:prstGeom prst="rect">
            <a:avLst/>
          </a:prstGeom>
          <a:ln w="0">
            <a:noFill/>
          </a:ln>
        </p:spPr>
      </p:pic>
      <p:sp>
        <p:nvSpPr>
          <p:cNvPr id="275" name="TextBox 9"/>
          <p:cNvSpPr/>
          <p:nvPr/>
        </p:nvSpPr>
        <p:spPr>
          <a:xfrm>
            <a:off x="6012000" y="2708280"/>
            <a:ext cx="26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ладелец подъездных путе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Схема 11" descr=""/>
          <p:cNvPicPr/>
          <p:nvPr/>
        </p:nvPicPr>
        <p:blipFill>
          <a:blip r:embed="rId4"/>
          <a:stretch/>
        </p:blipFill>
        <p:spPr>
          <a:xfrm>
            <a:off x="5943600" y="2919240"/>
            <a:ext cx="3176640" cy="3110040"/>
          </a:xfrm>
          <a:prstGeom prst="rect">
            <a:avLst/>
          </a:prstGeom>
          <a:ln w="0">
            <a:noFill/>
          </a:ln>
        </p:spPr>
      </p:pic>
      <p:pic>
        <p:nvPicPr>
          <p:cNvPr id="277" name="Схема 14" descr=""/>
          <p:cNvPicPr/>
          <p:nvPr/>
        </p:nvPicPr>
        <p:blipFill>
          <a:blip r:embed="rId5"/>
          <a:stretch/>
        </p:blipFill>
        <p:spPr>
          <a:xfrm>
            <a:off x="2889360" y="3029040"/>
            <a:ext cx="3395520" cy="2390760"/>
          </a:xfrm>
          <a:prstGeom prst="rect">
            <a:avLst/>
          </a:prstGeom>
          <a:ln w="0">
            <a:noFill/>
          </a:ln>
        </p:spPr>
      </p:pic>
      <p:pic>
        <p:nvPicPr>
          <p:cNvPr id="278" name="Схема 15" descr=""/>
          <p:cNvPicPr/>
          <p:nvPr/>
        </p:nvPicPr>
        <p:blipFill>
          <a:blip r:embed="rId6"/>
          <a:stretch/>
        </p:blipFill>
        <p:spPr>
          <a:xfrm>
            <a:off x="-6480" y="3024360"/>
            <a:ext cx="3146400" cy="2352600"/>
          </a:xfrm>
          <a:prstGeom prst="rect">
            <a:avLst/>
          </a:prstGeom>
          <a:ln w="0">
            <a:noFill/>
          </a:ln>
        </p:spPr>
      </p:pic>
      <p:sp>
        <p:nvSpPr>
          <p:cNvPr id="279" name="TextBox 16"/>
          <p:cNvSpPr/>
          <p:nvPr/>
        </p:nvSpPr>
        <p:spPr>
          <a:xfrm>
            <a:off x="611280" y="5732640"/>
            <a:ext cx="5400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8000"/>
                </a:solidFill>
                <a:uFillTx/>
                <a:latin typeface="Arial"/>
                <a:ea typeface="Arial"/>
              </a:rPr>
              <a:t>Владелец инфраструктуры общего пользования имеет возможность создать условия для временного элиминирования с сети излишнего вагонного пар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Изображение 17" descr="60036619-11275417-3d-puppet-with-exclamation-mark-isolated-over-white.jpg"/>
          <p:cNvPicPr/>
          <p:nvPr/>
        </p:nvPicPr>
        <p:blipFill>
          <a:blip r:embed="rId7"/>
          <a:stretch/>
        </p:blipFill>
        <p:spPr>
          <a:xfrm>
            <a:off x="108000" y="5516640"/>
            <a:ext cx="5871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ерческая инфраструктура рынка - эффективный механизм сорегулирования производства, оборота услуг по перевозкам грузов, обеспечивающий недискриминационный доступ заинтересованных организаций на рынок для ведения предпринимательской деятельности, механизм защиты и развития конкуренции на данном рынке, а также механизм адекватного технического, тарифного и антимонопольного регулирования товарных рынков в сфере железнодорожного транспорт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1"/>
          <p:cNvSpPr/>
          <p:nvPr/>
        </p:nvSpPr>
        <p:spPr>
          <a:xfrm>
            <a:off x="990720" y="533520"/>
            <a:ext cx="7345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3399"/>
                </a:solidFill>
                <a:latin typeface="Arial"/>
              </a:rPr>
              <a:t>СПАСИБО ЗА ВНИМАНИЕ!</a:t>
            </a:r>
            <a:br>
              <a:rPr sz="4200"/>
            </a:b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Picture 2" descr=""/>
          <p:cNvPicPr/>
          <p:nvPr/>
        </p:nvPicPr>
        <p:blipFill>
          <a:blip r:embed="rId1"/>
          <a:stretch/>
        </p:blipFill>
        <p:spPr>
          <a:xfrm>
            <a:off x="1295280" y="2262240"/>
            <a:ext cx="685800" cy="6919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3" descr=""/>
          <p:cNvPicPr/>
          <p:nvPr/>
        </p:nvPicPr>
        <p:blipFill>
          <a:blip r:embed="rId2"/>
          <a:stretch/>
        </p:blipFill>
        <p:spPr>
          <a:xfrm>
            <a:off x="2484360" y="3213000"/>
            <a:ext cx="577800" cy="5335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" descr=""/>
          <p:cNvPicPr/>
          <p:nvPr/>
        </p:nvPicPr>
        <p:blipFill>
          <a:blip r:embed="rId3"/>
          <a:stretch/>
        </p:blipFill>
        <p:spPr>
          <a:xfrm>
            <a:off x="2268360" y="3789360"/>
            <a:ext cx="908280" cy="83808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5"/>
          <p:cNvSpPr/>
          <p:nvPr/>
        </p:nvSpPr>
        <p:spPr>
          <a:xfrm>
            <a:off x="2106720" y="2362320"/>
            <a:ext cx="3608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fas.gov.ru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3203640" y="3141720"/>
            <a:ext cx="3608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FAS-boo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3203640" y="3933720"/>
            <a:ext cx="537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@rus_fas</a:t>
            </a:r>
            <a:r>
              <a:rPr b="0" lang="ru-RU" sz="3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&amp;</a:t>
            </a:r>
            <a:r>
              <a:rPr b="0" lang="ru-RU" sz="3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@fas_rf (eng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8" descr=""/>
          <p:cNvPicPr/>
          <p:nvPr/>
        </p:nvPicPr>
        <p:blipFill>
          <a:blip r:embed="rId4"/>
          <a:stretch/>
        </p:blipFill>
        <p:spPr>
          <a:xfrm>
            <a:off x="2340000" y="4581360"/>
            <a:ext cx="714240" cy="71460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9"/>
          <p:cNvSpPr/>
          <p:nvPr/>
        </p:nvSpPr>
        <p:spPr>
          <a:xfrm>
            <a:off x="3276720" y="4581360"/>
            <a:ext cx="2523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fasovk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10" descr=""/>
          <p:cNvPicPr/>
          <p:nvPr/>
        </p:nvPicPr>
        <p:blipFill>
          <a:blip r:embed="rId5"/>
          <a:stretch/>
        </p:blipFill>
        <p:spPr>
          <a:xfrm>
            <a:off x="2484360" y="5300640"/>
            <a:ext cx="550800" cy="53352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11"/>
          <p:cNvSpPr/>
          <p:nvPr/>
        </p:nvSpPr>
        <p:spPr>
          <a:xfrm>
            <a:off x="3348000" y="5229360"/>
            <a:ext cx="2524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anticartel.ru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Picture 12" descr=""/>
          <p:cNvPicPr/>
          <p:nvPr/>
        </p:nvPicPr>
        <p:blipFill>
          <a:blip r:embed="rId6"/>
          <a:stretch/>
        </p:blipFill>
        <p:spPr>
          <a:xfrm>
            <a:off x="4648320" y="2262240"/>
            <a:ext cx="685800" cy="70956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13"/>
          <p:cNvSpPr/>
          <p:nvPr/>
        </p:nvSpPr>
        <p:spPr>
          <a:xfrm>
            <a:off x="5459400" y="2341440"/>
            <a:ext cx="3608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emc.fas.gov.ru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Line 14"/>
          <p:cNvSpPr/>
          <p:nvPr/>
        </p:nvSpPr>
        <p:spPr>
          <a:xfrm>
            <a:off x="1116000" y="2997360"/>
            <a:ext cx="7238880" cy="1440"/>
          </a:xfrm>
          <a:prstGeom prst="line">
            <a:avLst/>
          </a:prstGeom>
          <a:ln cap="sq"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Line 15"/>
          <p:cNvSpPr/>
          <p:nvPr/>
        </p:nvSpPr>
        <p:spPr>
          <a:xfrm>
            <a:off x="1066680" y="2057400"/>
            <a:ext cx="7239240" cy="1440"/>
          </a:xfrm>
          <a:prstGeom prst="line">
            <a:avLst/>
          </a:prstGeom>
          <a:ln cap="sq"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16"/>
          <p:cNvSpPr/>
          <p:nvPr/>
        </p:nvSpPr>
        <p:spPr>
          <a:xfrm>
            <a:off x="7047000" y="6580080"/>
            <a:ext cx="213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A7E1D-B517-460D-8C36-18F7BF338330}" type="slidenum">
              <a:rPr b="0" lang="ru-RU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17"/>
          <p:cNvSpPr/>
          <p:nvPr/>
        </p:nvSpPr>
        <p:spPr>
          <a:xfrm>
            <a:off x="3492360" y="5950080"/>
            <a:ext cx="496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international@fas.gov.ru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Picture 18" descr=""/>
          <p:cNvPicPr/>
          <p:nvPr/>
        </p:nvPicPr>
        <p:blipFill>
          <a:blip r:embed="rId7"/>
          <a:stretch/>
        </p:blipFill>
        <p:spPr>
          <a:xfrm>
            <a:off x="2428920" y="5929200"/>
            <a:ext cx="785880" cy="6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Заголовок 1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конкурентоспособности железнодорожного транспорта по сравнению с автомобильным транспорт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0" y="1143000"/>
            <a:ext cx="4572000" cy="3076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"/>
          <p:cNvPicPr/>
          <p:nvPr/>
        </p:nvPicPr>
        <p:blipFill>
          <a:blip r:embed="rId2"/>
          <a:stretch/>
        </p:blipFill>
        <p:spPr>
          <a:xfrm>
            <a:off x="4500720" y="1143000"/>
            <a:ext cx="4643280" cy="3143160"/>
          </a:xfrm>
          <a:prstGeom prst="rect">
            <a:avLst/>
          </a:prstGeom>
          <a:ln w="0">
            <a:noFill/>
          </a:ln>
        </p:spPr>
      </p:pic>
      <p:sp>
        <p:nvSpPr>
          <p:cNvPr id="132" name="TextBox 14"/>
          <p:cNvSpPr/>
          <p:nvPr/>
        </p:nvSpPr>
        <p:spPr>
          <a:xfrm>
            <a:off x="0" y="4071960"/>
            <a:ext cx="4572000" cy="22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я с 2010 г. темпы прироста грузооборота автомобильного транспорта начали превышать темпы прироста ж/д транспорт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12 г. прирост грузооборота автомобильного транспорта относительно 2008 г. в три раза превысил аналогичный темп прироста для ж/д транспорта (+15% против +5%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анным Росстата за 5 месяцев 2013 года грузооборот железнодорожного транспорта снизился на 3,5%, а грузооборот автомобильного транспорта вырос на 2,6%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анным ИПЕМ, уход грузов с ж/д транспорта обойдется автодорогам в 4,9 млн дополнительных рейсов грузовых автомобилей в год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Box 8"/>
          <p:cNvSpPr/>
          <p:nvPr/>
        </p:nvSpPr>
        <p:spPr>
          <a:xfrm>
            <a:off x="4572000" y="4395960"/>
            <a:ext cx="457200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нденция снижения скорости доставки грузовых отправок на сети железных дорог вызывает серьезную обеспокоенность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яя скорость доставки одной отправки грузов железнодорожным транспортом в 2012 г. сократилась по сравнению с 2008 г. на 71 км в сутки  и приблизилась к показателю 1986 г., составив при этом 219 км/сутк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Заголовок 1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конкурентоспособности железнодорожного транспорта по сравнению с автомобильным транспорт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должени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0" y="1071720"/>
            <a:ext cx="4518000" cy="5214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4464000" y="1071720"/>
            <a:ext cx="468000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ерческая инфраструктура рынка грузовых железнодорожных перевозок - система нормативных правовых и нормативных технических актов, определяющих порядок оказания и оборота услуг по перевозкам грузов железнодорожным транспортом и связанных с ними услуг, договорных отношений между участниками рынка этих услуг, обычаев делового оборота (включая порядок обмена информацией между участниками рынка), а также система институтов рынка, в совокупности обеспечивающие необходимые условия для оборота услуг инфраструктуры, услуг по перевозкам грузов и повагонным перевозкам грузобагажа и иных, связанных с ними услуг, образуют коммерческую инфраструктуру рынка грузовых железнодорожных перевозок и связанных с ними услу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ерческая инфраструктура рынка грузовых железнодорожных перевоз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8"/>
          <p:cNvSpPr/>
          <p:nvPr/>
        </p:nvSpPr>
        <p:spPr>
          <a:xfrm>
            <a:off x="250920" y="1214280"/>
            <a:ext cx="889308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179280" y="1453680"/>
            <a:ext cx="8713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нные торги, работающие по утвержденным правилам. В 2012 году ФАС России с участием ОАО «РЖД»,  представителей крупнейших грузоотправителей, операторов, проведены «модельные торги», которые показали работоспособность торговой площадки вагон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уется создать Совет рынка рынка грузовых железнодорожных перевозок, который на принципах «сорегулирования» готовит предложения по изменению нормативно-правовых актов в части, касающейся учета расширяющихся рыночных отношений, в замещение хозяйственно-административных отношений, закрепленных в ФЗ от 10.01.2003 № 18-ФЗ «Устав железнодорожного транспорта Российской Федерации», Правилах перевозок, утвержденных Минтрансом России (Правила рынк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S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 поведения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создания Коммерческой инфраструктуры ры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468360" y="1125360"/>
            <a:ext cx="34923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177840" indent="-177840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800" spc="-1" strike="noStrike">
                <a:solidFill>
                  <a:srgbClr val="f1b60f"/>
                </a:solidFill>
                <a:latin typeface="Arial"/>
              </a:rPr>
              <a:t>ПРОБЛЕМ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начительная часть услуг по перевозке грузов выходит из-под тарифного регулирова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468360" y="2565360"/>
            <a:ext cx="3492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177840" indent="-177840" algn="just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ормирующийся рынок уникален и характеризуется большим количеством участник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539640" y="479736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177840" indent="-177840" algn="just">
              <a:spcBef>
                <a:spcPts val="876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уществует риск подмены интересов всех участников рынка интересами его отдельных субъектов. (Пример СРО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4716360" y="1125360"/>
            <a:ext cx="37450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88920" indent="-88920">
              <a:spcBef>
                <a:spcPts val="1125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800" spc="-1" strike="noStrike">
                <a:solidFill>
                  <a:srgbClr val="f1b60f"/>
                </a:solidFill>
                <a:latin typeface="Arial"/>
              </a:rPr>
              <a:t>РЕШЕНИ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8920" indent="-88920">
              <a:spcBef>
                <a:spcPts val="624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88920" indent="-88920" algn="just">
              <a:spcBef>
                <a:spcPts val="876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здание коммерческой инфраструктуры рынка железнодорожных перевозок на многопалатной основе с  участием представителей государств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4643280" y="2852640"/>
            <a:ext cx="38163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88920" indent="-88920" algn="just">
              <a:spcBef>
                <a:spcPts val="876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блюдение баланса интересов грузоотправителей, операторов, перевозчиков и владельцев инфраструктуры железнодорожного транспорта при формировании  модели рынка грузовых перевозок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5"/>
          <p:cNvSpPr/>
          <p:nvPr/>
        </p:nvSpPr>
        <p:spPr>
          <a:xfrm>
            <a:off x="4572000" y="4437000"/>
            <a:ext cx="4068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88920" indent="-88920" algn="just">
              <a:spcBef>
                <a:spcPts val="876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ормирование справедливой системы рыночного ценообразования и оптимизация расчетов между субъектами рынка путем создания его коммерческой инфраструктур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539640" y="3500280"/>
            <a:ext cx="34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t">
            <a:spAutoFit/>
          </a:bodyPr>
          <a:p>
            <a:pPr marL="177840" indent="-177840" algn="just">
              <a:spcBef>
                <a:spcPts val="876"/>
              </a:spcBef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сложнение конфигурации взаимодействия участников при сохранении устаревшей  нормативно-правовой баз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Прямоугольник 5"/>
          <p:cNvSpPr/>
          <p:nvPr/>
        </p:nvSpPr>
        <p:spPr>
          <a:xfrm>
            <a:off x="250920" y="11592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нная торговля услугами в сфере железнодорожного транспо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00360" y="1125000"/>
            <a:ext cx="4174920" cy="3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мент организованных торг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Прямоугольник 27"/>
          <p:cNvGrpSpPr/>
          <p:nvPr/>
        </p:nvGrpSpPr>
        <p:grpSpPr>
          <a:xfrm>
            <a:off x="5065560" y="3200400"/>
            <a:ext cx="2468880" cy="603360"/>
            <a:chOff x="5065560" y="3200400"/>
            <a:chExt cx="2468880" cy="603360"/>
          </a:xfrm>
        </p:grpSpPr>
        <p:pic>
          <p:nvPicPr>
            <p:cNvPr id="152" name="Прямоугольник 27" descr=""/>
            <p:cNvPicPr/>
            <p:nvPr/>
          </p:nvPicPr>
          <p:blipFill>
            <a:blip r:embed="rId1"/>
            <a:stretch/>
          </p:blipFill>
          <p:spPr>
            <a:xfrm>
              <a:off x="5065560" y="3200400"/>
              <a:ext cx="246888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5076720" y="3213000"/>
              <a:ext cx="24480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рганизованная торговая площадк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4" name="Прямоугольник 29"/>
          <p:cNvGrpSpPr/>
          <p:nvPr/>
        </p:nvGrpSpPr>
        <p:grpSpPr>
          <a:xfrm>
            <a:off x="3193920" y="5145120"/>
            <a:ext cx="1822680" cy="743040"/>
            <a:chOff x="3193920" y="5145120"/>
            <a:chExt cx="1822680" cy="743040"/>
          </a:xfrm>
        </p:grpSpPr>
        <p:pic>
          <p:nvPicPr>
            <p:cNvPr id="155" name="Прямоугольник 29" descr=""/>
            <p:cNvPicPr/>
            <p:nvPr/>
          </p:nvPicPr>
          <p:blipFill>
            <a:blip r:embed="rId2"/>
            <a:stretch/>
          </p:blipFill>
          <p:spPr>
            <a:xfrm>
              <a:off x="3193920" y="5145120"/>
              <a:ext cx="182268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3203640" y="5157720"/>
              <a:ext cx="180000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рузовые вагоны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57" name="Прямая со стрелкой 31"/>
          <p:cNvCxnSpPr/>
          <p:nvPr/>
        </p:nvCxnSpPr>
        <p:spPr>
          <a:xfrm flipH="1">
            <a:off x="5002920" y="5229000"/>
            <a:ext cx="108180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Dot"/>
            <a:miter/>
            <a:tailEnd len="med" type="arrow" w="med"/>
          </a:ln>
        </p:spPr>
      </p:cxnSp>
      <p:sp>
        <p:nvSpPr>
          <p:cNvPr id="158" name="Прямоугольник 35"/>
          <p:cNvSpPr/>
          <p:nvPr/>
        </p:nvSpPr>
        <p:spPr>
          <a:xfrm>
            <a:off x="5076720" y="5300640"/>
            <a:ext cx="1150920" cy="649440"/>
          </a:xfrm>
          <a:prstGeom prst="rect">
            <a:avLst/>
          </a:prstGeom>
          <a:noFill/>
          <a:ln w="2232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ор; собственник ваго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9" name="Прямая со стрелкой 37"/>
          <p:cNvCxnSpPr/>
          <p:nvPr/>
        </p:nvCxnSpPr>
        <p:spPr>
          <a:xfrm flipV="1">
            <a:off x="1692360" y="5660280"/>
            <a:ext cx="151200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Dot"/>
            <a:miter/>
            <a:tailEnd len="med" type="arrow" w="med"/>
          </a:ln>
        </p:spPr>
      </p:cxnSp>
      <p:grpSp>
        <p:nvGrpSpPr>
          <p:cNvPr id="160" name="Прямоугольник 38"/>
          <p:cNvGrpSpPr/>
          <p:nvPr/>
        </p:nvGrpSpPr>
        <p:grpSpPr>
          <a:xfrm>
            <a:off x="5065560" y="1401840"/>
            <a:ext cx="3048120" cy="1463760"/>
            <a:chOff x="5065560" y="1401840"/>
            <a:chExt cx="3048120" cy="1463760"/>
          </a:xfrm>
        </p:grpSpPr>
        <p:pic>
          <p:nvPicPr>
            <p:cNvPr id="161" name="Прямоугольник 38" descr=""/>
            <p:cNvPicPr/>
            <p:nvPr/>
          </p:nvPicPr>
          <p:blipFill>
            <a:blip r:embed="rId3"/>
            <a:stretch/>
          </p:blipFill>
          <p:spPr>
            <a:xfrm>
              <a:off x="5065560" y="1401840"/>
              <a:ext cx="3048120" cy="14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5076720" y="1413000"/>
              <a:ext cx="3024360" cy="14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егулярные грузовые  железнодорожные перевозки,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том числе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скоренные контейнерные поезда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еревозки в изотермических вагонах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еревозки грузобагажа (грузобагажные и почтовобагажные поезда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Прямоугольник 42"/>
          <p:cNvSpPr/>
          <p:nvPr/>
        </p:nvSpPr>
        <p:spPr>
          <a:xfrm>
            <a:off x="1692360" y="5805360"/>
            <a:ext cx="1512720" cy="503280"/>
          </a:xfrm>
          <a:prstGeom prst="rect">
            <a:avLst/>
          </a:prstGeom>
          <a:noFill/>
          <a:ln w="2232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озчик; грузоотправите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4" name="Прямая со стрелкой 43"/>
          <p:cNvCxnSpPr/>
          <p:nvPr/>
        </p:nvCxnSpPr>
        <p:spPr>
          <a:xfrm>
            <a:off x="4140000" y="1915920"/>
            <a:ext cx="93708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165" name="Прямоугольник 46"/>
          <p:cNvSpPr/>
          <p:nvPr/>
        </p:nvSpPr>
        <p:spPr>
          <a:xfrm>
            <a:off x="3995640" y="2060640"/>
            <a:ext cx="1008000" cy="4316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зоотпра-вители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6" name="Прямая со стрелкой 48"/>
          <p:cNvCxnSpPr/>
          <p:nvPr/>
        </p:nvCxnSpPr>
        <p:spPr>
          <a:xfrm flipH="1">
            <a:off x="8100720" y="1915920"/>
            <a:ext cx="86256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167" name="Прямоугольник 49"/>
          <p:cNvSpPr/>
          <p:nvPr/>
        </p:nvSpPr>
        <p:spPr>
          <a:xfrm>
            <a:off x="8136000" y="1989000"/>
            <a:ext cx="1008000" cy="2876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озчи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Прямоугольник 50"/>
          <p:cNvGrpSpPr/>
          <p:nvPr/>
        </p:nvGrpSpPr>
        <p:grpSpPr>
          <a:xfrm>
            <a:off x="5353200" y="6151680"/>
            <a:ext cx="2041200" cy="530280"/>
            <a:chOff x="5353200" y="6151680"/>
            <a:chExt cx="2041200" cy="530280"/>
          </a:xfrm>
        </p:grpSpPr>
        <p:pic>
          <p:nvPicPr>
            <p:cNvPr id="169" name="Прямоугольник 50" descr=""/>
            <p:cNvPicPr/>
            <p:nvPr/>
          </p:nvPicPr>
          <p:blipFill>
            <a:blip r:embed="rId4"/>
            <a:stretch/>
          </p:blipFill>
          <p:spPr>
            <a:xfrm>
              <a:off x="5353200" y="6151680"/>
              <a:ext cx="204120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5364000" y="6165720"/>
              <a:ext cx="201636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Локомотивная тяга (перспектива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1" name="Прямоугольник 52"/>
          <p:cNvGrpSpPr/>
          <p:nvPr/>
        </p:nvGrpSpPr>
        <p:grpSpPr>
          <a:xfrm>
            <a:off x="7510320" y="4498920"/>
            <a:ext cx="1646280" cy="743040"/>
            <a:chOff x="7510320" y="4498920"/>
            <a:chExt cx="1646280" cy="743040"/>
          </a:xfrm>
        </p:grpSpPr>
        <p:pic>
          <p:nvPicPr>
            <p:cNvPr id="172" name="Прямоугольник 52" descr=""/>
            <p:cNvPicPr/>
            <p:nvPr/>
          </p:nvPicPr>
          <p:blipFill>
            <a:blip r:embed="rId5"/>
            <a:stretch/>
          </p:blipFill>
          <p:spPr>
            <a:xfrm>
              <a:off x="7510320" y="4498920"/>
              <a:ext cx="164628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7524720" y="4508640"/>
              <a:ext cx="161928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едоставление вагономест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4" name="Прямоугольник 55"/>
          <p:cNvSpPr/>
          <p:nvPr/>
        </p:nvSpPr>
        <p:spPr>
          <a:xfrm>
            <a:off x="7667640" y="3500280"/>
            <a:ext cx="1476360" cy="790560"/>
          </a:xfrm>
          <a:prstGeom prst="rect">
            <a:avLst/>
          </a:prstGeom>
          <a:noFill/>
          <a:ln w="2232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озчики, владельцы вагонов, грузоотправител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5" name="Прямая со стрелкой 57"/>
          <p:cNvCxnSpPr/>
          <p:nvPr/>
        </p:nvCxnSpPr>
        <p:spPr>
          <a:xfrm flipV="1">
            <a:off x="8459280" y="5300280"/>
            <a:ext cx="1080" cy="218160"/>
          </a:xfrm>
          <a:prstGeom prst="straightConnector1">
            <a:avLst/>
          </a:prstGeom>
          <a:ln w="19080">
            <a:solidFill>
              <a:srgbClr val="000000"/>
            </a:solidFill>
            <a:prstDash val="dashDot"/>
            <a:miter/>
            <a:tailEnd len="med" type="arrow" w="med"/>
          </a:ln>
        </p:spPr>
      </p:cxnSp>
      <p:sp>
        <p:nvSpPr>
          <p:cNvPr id="176" name="Прямоугольник 59"/>
          <p:cNvSpPr/>
          <p:nvPr/>
        </p:nvSpPr>
        <p:spPr>
          <a:xfrm>
            <a:off x="7667640" y="5516640"/>
            <a:ext cx="1476360" cy="431640"/>
          </a:xfrm>
          <a:prstGeom prst="rect">
            <a:avLst/>
          </a:prstGeom>
          <a:noFill/>
          <a:ln w="2232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елец инфраструктур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7" name="Прямая со стрелкой 66"/>
          <p:cNvCxnSpPr/>
          <p:nvPr/>
        </p:nvCxnSpPr>
        <p:spPr>
          <a:xfrm flipH="1" flipV="1">
            <a:off x="6300000" y="2851920"/>
            <a:ext cx="1080" cy="361080"/>
          </a:xfrm>
          <a:prstGeom prst="straightConnector1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178" name="Прямая со стрелкой 81"/>
          <p:cNvCxnSpPr/>
          <p:nvPr/>
        </p:nvCxnSpPr>
        <p:spPr>
          <a:xfrm>
            <a:off x="8459280" y="4292640"/>
            <a:ext cx="1080" cy="216720"/>
          </a:xfrm>
          <a:prstGeom prst="straightConnector1">
            <a:avLst/>
          </a:prstGeom>
          <a:ln w="19080">
            <a:solidFill>
              <a:srgbClr val="000000"/>
            </a:solidFill>
            <a:prstDash val="dashDot"/>
            <a:miter/>
            <a:tailEnd len="med" type="arrow" w="med"/>
          </a:ln>
        </p:spPr>
      </p:cxnSp>
      <p:cxnSp>
        <p:nvCxnSpPr>
          <p:cNvPr id="179" name="Прямая со стрелкой 92"/>
          <p:cNvCxnSpPr/>
          <p:nvPr/>
        </p:nvCxnSpPr>
        <p:spPr>
          <a:xfrm>
            <a:off x="6300360" y="3789000"/>
            <a:ext cx="1080" cy="2377080"/>
          </a:xfrm>
          <a:prstGeom prst="straightConnector1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180" name="Прямая со стрелкой 98"/>
          <p:cNvCxnSpPr/>
          <p:nvPr/>
        </p:nvCxnSpPr>
        <p:spPr>
          <a:xfrm>
            <a:off x="6300720" y="3789000"/>
            <a:ext cx="1224720" cy="1080360"/>
          </a:xfrm>
          <a:prstGeom prst="straightConnector1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</p:cxnSp>
      <p:cxnSp>
        <p:nvCxnSpPr>
          <p:cNvPr id="181" name="Прямая со стрелкой 103"/>
          <p:cNvCxnSpPr/>
          <p:nvPr/>
        </p:nvCxnSpPr>
        <p:spPr>
          <a:xfrm flipH="1">
            <a:off x="5002920" y="3789000"/>
            <a:ext cx="1297800" cy="1369080"/>
          </a:xfrm>
          <a:prstGeom prst="straightConnector1">
            <a:avLst/>
          </a:prstGeom>
          <a:ln w="44280">
            <a:solidFill>
              <a:srgbClr val="000000"/>
            </a:solidFill>
            <a:miter/>
            <a:tailEnd len="med" type="stealth" w="med"/>
          </a:ln>
        </p:spPr>
      </p:cxnSp>
      <p:sp>
        <p:nvSpPr>
          <p:cNvPr id="182" name="Rectangle 15"/>
          <p:cNvSpPr/>
          <p:nvPr/>
        </p:nvSpPr>
        <p:spPr>
          <a:xfrm>
            <a:off x="0" y="3500280"/>
            <a:ext cx="1008000" cy="792360"/>
          </a:xfrm>
          <a:prstGeom prst="rect">
            <a:avLst/>
          </a:prstGeom>
          <a:solidFill>
            <a:srgbClr val="6666ff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ОАО «РЖД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1042920" y="3500280"/>
            <a:ext cx="649440" cy="792360"/>
          </a:xfrm>
          <a:prstGeom prst="rect">
            <a:avLst/>
          </a:prstGeom>
          <a:solidFill>
            <a:srgbClr val="c6d9f1">
              <a:alpha val="4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П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4" name="Соединительная линия уступом 15"/>
          <p:cNvCxnSpPr>
            <a:endCxn id="185" idx="3"/>
          </p:cNvCxnSpPr>
          <p:nvPr/>
        </p:nvCxnSpPr>
        <p:spPr>
          <a:xfrm flipV="1" rot="16200000">
            <a:off x="2744640" y="2339280"/>
            <a:ext cx="1080000" cy="451440"/>
          </a:xfrm>
          <a:prstGeom prst="bentConnector2">
            <a:avLst/>
          </a:prstGeom>
          <a:ln cap="rnd" w="31680">
            <a:solidFill>
              <a:srgbClr val="000000"/>
            </a:solidFill>
            <a:round/>
            <a:tailEnd len="lg" type="stealth" w="lg"/>
          </a:ln>
        </p:spPr>
      </p:cxnSp>
      <p:cxnSp>
        <p:nvCxnSpPr>
          <p:cNvPr id="186" name="Прямая со стрелкой 25"/>
          <p:cNvCxnSpPr/>
          <p:nvPr/>
        </p:nvCxnSpPr>
        <p:spPr>
          <a:xfrm flipH="1">
            <a:off x="1692000" y="3860280"/>
            <a:ext cx="12960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7" name="Прямая со стрелкой 12"/>
          <p:cNvCxnSpPr>
            <a:endCxn id="188" idx="3"/>
          </p:cNvCxnSpPr>
          <p:nvPr/>
        </p:nvCxnSpPr>
        <p:spPr>
          <a:xfrm flipH="1">
            <a:off x="3058560" y="2420640"/>
            <a:ext cx="4338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9" name="Соединительная линия уступом 23"/>
          <p:cNvCxnSpPr>
            <a:stCxn id="182" idx="2"/>
            <a:endCxn id="190" idx="1"/>
          </p:cNvCxnSpPr>
          <p:nvPr/>
        </p:nvCxnSpPr>
        <p:spPr>
          <a:xfrm flipH="1" rot="16200000">
            <a:off x="898920" y="3897000"/>
            <a:ext cx="469080" cy="1259640"/>
          </a:xfrm>
          <a:prstGeom prst="bentConnector2">
            <a:avLst/>
          </a:prstGeom>
          <a:ln cap="rnd"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4176720" cy="35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ующий«Внебиржевой» сег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Прямая соединительная линия 160" descr=""/>
          <p:cNvPicPr/>
          <p:nvPr/>
        </p:nvPicPr>
        <p:blipFill>
          <a:blip r:embed="rId6"/>
          <a:stretch/>
        </p:blipFill>
        <p:spPr>
          <a:xfrm>
            <a:off x="3790800" y="1127160"/>
            <a:ext cx="32040" cy="4041720"/>
          </a:xfrm>
          <a:prstGeom prst="rect">
            <a:avLst/>
          </a:prstGeom>
          <a:ln w="0">
            <a:noFill/>
          </a:ln>
        </p:spPr>
      </p:pic>
      <p:sp>
        <p:nvSpPr>
          <p:cNvPr id="193" name="TextBox 161"/>
          <p:cNvSpPr/>
          <p:nvPr/>
        </p:nvSpPr>
        <p:spPr>
          <a:xfrm>
            <a:off x="0" y="5013360"/>
            <a:ext cx="284328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нется работа не по регулируемым ценам (тарифам), а по индикаторам  цен организованных торгов, в том числе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ен перевозки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слуг предоставлен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гонов, локомотивов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ей необщег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зова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Прямая соединительная линия 174" descr=""/>
          <p:cNvPicPr/>
          <p:nvPr/>
        </p:nvPicPr>
        <p:blipFill>
          <a:blip r:embed="rId7"/>
          <a:stretch/>
        </p:blipFill>
        <p:spPr>
          <a:xfrm>
            <a:off x="3790800" y="5877000"/>
            <a:ext cx="32040" cy="5842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2" descr=""/>
          <p:cNvPicPr/>
          <p:nvPr/>
        </p:nvPicPr>
        <p:blipFill>
          <a:blip r:embed="rId8"/>
          <a:stretch/>
        </p:blipFill>
        <p:spPr>
          <a:xfrm>
            <a:off x="2987640" y="3141720"/>
            <a:ext cx="793800" cy="12970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21"/>
          <p:cNvSpPr/>
          <p:nvPr/>
        </p:nvSpPr>
        <p:spPr>
          <a:xfrm>
            <a:off x="1763640" y="2349360"/>
            <a:ext cx="1295640" cy="142920"/>
          </a:xfrm>
          <a:prstGeom prst="rect">
            <a:avLst/>
          </a:prstGeom>
          <a:solidFill>
            <a:srgbClr val="6666ff">
              <a:alpha val="48000"/>
            </a:srgbClr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21"/>
          <p:cNvSpPr/>
          <p:nvPr/>
        </p:nvSpPr>
        <p:spPr>
          <a:xfrm>
            <a:off x="1763640" y="1773360"/>
            <a:ext cx="1295640" cy="504720"/>
          </a:xfrm>
          <a:prstGeom prst="rect">
            <a:avLst/>
          </a:prstGeom>
          <a:solidFill>
            <a:srgbClr val="6666ff">
              <a:alpha val="48000"/>
            </a:srgbClr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зависимые оператор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21"/>
          <p:cNvSpPr/>
          <p:nvPr/>
        </p:nvSpPr>
        <p:spPr>
          <a:xfrm>
            <a:off x="1763640" y="4508640"/>
            <a:ext cx="1224000" cy="504720"/>
          </a:xfrm>
          <a:prstGeom prst="rect">
            <a:avLst/>
          </a:prstGeom>
          <a:solidFill>
            <a:srgbClr val="6666ff">
              <a:alpha val="48000"/>
            </a:srgbClr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АО «ФГК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21"/>
          <p:cNvSpPr/>
          <p:nvPr/>
        </p:nvSpPr>
        <p:spPr>
          <a:xfrm>
            <a:off x="1763640" y="2637000"/>
            <a:ext cx="1295640" cy="431640"/>
          </a:xfrm>
          <a:prstGeom prst="rect">
            <a:avLst/>
          </a:prstGeom>
          <a:solidFill>
            <a:srgbClr val="6666ff">
              <a:alpha val="48000"/>
            </a:srgbClr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АО «ПГК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7" name="Прямая со стрелкой 12"/>
          <p:cNvCxnSpPr/>
          <p:nvPr/>
        </p:nvCxnSpPr>
        <p:spPr>
          <a:xfrm flipH="1">
            <a:off x="3058560" y="2852280"/>
            <a:ext cx="4338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98" name="Соединительная линия уступом 15"/>
          <p:cNvCxnSpPr>
            <a:stCxn id="185" idx="1"/>
            <a:endCxn id="182" idx="0"/>
          </p:cNvCxnSpPr>
          <p:nvPr/>
        </p:nvCxnSpPr>
        <p:spPr>
          <a:xfrm flipV="1" rot="10800000">
            <a:off x="504000" y="2025360"/>
            <a:ext cx="1259640" cy="1475280"/>
          </a:xfrm>
          <a:prstGeom prst="bentConnector2">
            <a:avLst/>
          </a:prstGeom>
          <a:ln cap="rnd" w="3168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99" name="Прямая со стрелкой 12"/>
          <p:cNvCxnSpPr/>
          <p:nvPr/>
        </p:nvCxnSpPr>
        <p:spPr>
          <a:xfrm flipH="1">
            <a:off x="468000" y="2852280"/>
            <a:ext cx="12960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200" name="Прямая со стрелкой 12"/>
          <p:cNvCxnSpPr/>
          <p:nvPr/>
        </p:nvCxnSpPr>
        <p:spPr>
          <a:xfrm flipH="1">
            <a:off x="468000" y="2420640"/>
            <a:ext cx="12960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201" name="Соединительная линия уступом 15"/>
          <p:cNvCxnSpPr>
            <a:endCxn id="190" idx="3"/>
          </p:cNvCxnSpPr>
          <p:nvPr/>
        </p:nvCxnSpPr>
        <p:spPr>
          <a:xfrm rot="5400000">
            <a:off x="3060000" y="4365360"/>
            <a:ext cx="322920" cy="469080"/>
          </a:xfrm>
          <a:prstGeom prst="bentConnector2">
            <a:avLst/>
          </a:prstGeom>
          <a:ln cap="rnd"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202" name="Прямоугольник 109"/>
          <p:cNvSpPr/>
          <p:nvPr/>
        </p:nvSpPr>
        <p:spPr>
          <a:xfrm>
            <a:off x="7524720" y="6426360"/>
            <a:ext cx="1476360" cy="431640"/>
          </a:xfrm>
          <a:prstGeom prst="rect">
            <a:avLst/>
          </a:prstGeom>
          <a:noFill/>
          <a:ln w="2232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елец локомоти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3" name="Прямая со стрелкой 110"/>
          <p:cNvCxnSpPr/>
          <p:nvPr/>
        </p:nvCxnSpPr>
        <p:spPr>
          <a:xfrm flipH="1">
            <a:off x="7379640" y="6308280"/>
            <a:ext cx="158508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Dot"/>
            <a:miter/>
            <a:tailEnd len="med" type="arrow" w="med"/>
          </a:ln>
        </p:spPr>
      </p:cxnSp>
      <p:sp>
        <p:nvSpPr>
          <p:cNvPr id="204" name="Прямоугольник 112"/>
          <p:cNvSpPr/>
          <p:nvPr/>
        </p:nvSpPr>
        <p:spPr>
          <a:xfrm>
            <a:off x="4067280" y="6524640"/>
            <a:ext cx="1296720" cy="217440"/>
          </a:xfrm>
          <a:prstGeom prst="rect">
            <a:avLst/>
          </a:prstGeom>
          <a:noFill/>
          <a:ln w="2232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возч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5" name="Прямая со стрелкой 113"/>
          <p:cNvCxnSpPr/>
          <p:nvPr/>
        </p:nvCxnSpPr>
        <p:spPr>
          <a:xfrm flipV="1">
            <a:off x="4284720" y="6452640"/>
            <a:ext cx="108000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Dot"/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Заголовок 1"/>
          <p:cNvSpPr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торговой площадки КИ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Блок-схема: процесс 15"/>
          <p:cNvSpPr/>
          <p:nvPr/>
        </p:nvSpPr>
        <p:spPr>
          <a:xfrm>
            <a:off x="3714840" y="3214800"/>
            <a:ext cx="1871640" cy="1295280"/>
          </a:xfrm>
          <a:prstGeom prst="flowChartProcess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Выноска 1 (граница и черта) 16"/>
          <p:cNvSpPr/>
          <p:nvPr/>
        </p:nvSpPr>
        <p:spPr>
          <a:xfrm>
            <a:off x="6378480" y="2278080"/>
            <a:ext cx="2160720" cy="86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300" y="24500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пределение сквозной ставки на перевозк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Выноска 1 (граница и черта) 17"/>
          <p:cNvSpPr/>
          <p:nvPr/>
        </p:nvSpPr>
        <p:spPr>
          <a:xfrm>
            <a:off x="906480" y="4583160"/>
            <a:ext cx="2160720" cy="863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7919" y="-2056"/>
                </a:moveTo>
                <a:lnTo>
                  <a:pt x="23017" y="18278"/>
                </a:lnTo>
              </a:path>
              <a:path w="21600" h="21600">
                <a:moveTo>
                  <a:pt x="23017" y="0"/>
                </a:moveTo>
                <a:lnTo>
                  <a:pt x="23017" y="21600"/>
                </a:lnTo>
              </a:path>
            </a:pathLst>
          </a:cu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Услуги железнодорожных терминалов и ППЖТ по обработке груз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Выноска 1 (граница и черта) 18"/>
          <p:cNvSpPr/>
          <p:nvPr/>
        </p:nvSpPr>
        <p:spPr>
          <a:xfrm>
            <a:off x="906480" y="3502080"/>
            <a:ext cx="2160720" cy="86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8012" y="7973"/>
                </a:moveTo>
                <a:lnTo>
                  <a:pt x="22923" y="7782"/>
                </a:lnTo>
              </a:path>
              <a:path w="21600" h="21600">
                <a:moveTo>
                  <a:pt x="22923" y="0"/>
                </a:moveTo>
                <a:lnTo>
                  <a:pt x="22923" y="21600"/>
                </a:lnTo>
              </a:path>
            </a:pathLst>
          </a:cu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родажа твердых ниток граф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Выноска 1 (граница и черта) 19"/>
          <p:cNvSpPr/>
          <p:nvPr/>
        </p:nvSpPr>
        <p:spPr>
          <a:xfrm>
            <a:off x="6378480" y="3502080"/>
            <a:ext cx="2160720" cy="86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813" y="7740"/>
                </a:moveTo>
                <a:lnTo>
                  <a:pt x="-1800" y="7782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Временное размещение вагонов на подъездных путях общего и не общего пользова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Выноска 1 (граница и черта) 20"/>
          <p:cNvSpPr/>
          <p:nvPr/>
        </p:nvSpPr>
        <p:spPr>
          <a:xfrm>
            <a:off x="906480" y="2351160"/>
            <a:ext cx="2160720" cy="863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7919" y="21501"/>
                </a:moveTo>
                <a:lnTo>
                  <a:pt x="22830" y="9648"/>
                </a:lnTo>
              </a:path>
              <a:path w="21600" h="21600">
                <a:moveTo>
                  <a:pt x="22830" y="0"/>
                </a:moveTo>
                <a:lnTo>
                  <a:pt x="22830" y="21600"/>
                </a:lnTo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доставление подвижного соста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Выноска 1 (граница и черта) 21"/>
          <p:cNvSpPr/>
          <p:nvPr/>
        </p:nvSpPr>
        <p:spPr>
          <a:xfrm>
            <a:off x="6378480" y="4583160"/>
            <a:ext cx="2160720" cy="863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000" y="-2522"/>
                </a:moveTo>
                <a:lnTo>
                  <a:pt x="-1893" y="17578"/>
                </a:lnTo>
              </a:path>
              <a:path w="21600" h="21600">
                <a:moveTo>
                  <a:pt x="-1893" y="0"/>
                </a:moveTo>
                <a:lnTo>
                  <a:pt x="-1893" y="21600"/>
                </a:lnTo>
              </a:path>
            </a:pathLst>
          </a:cu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мплексное предоставление услу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Яковенко Наталия Юрьевна</dc:creator>
  <dc:description/>
  <dc:language>en-US</dc:language>
  <cp:lastModifiedBy>Яковенко Наталия Юрьевна</cp:lastModifiedBy>
  <dcterms:modified xsi:type="dcterms:W3CDTF">2014-11-11T07:44:25Z</dcterms:modified>
  <cp:revision>2003</cp:revision>
  <dc:subject/>
  <dc:title>Презентация PowerPoint</dc:title>
</cp:coreProperties>
</file>