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4C49-4D4E-45BD-86C2-4307390CCC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071A-2FC8-4C83-8F71-39EE48115E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EDD0-EAED-4029-B95F-6763EB583E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0D6F-D6CE-45CD-A505-19BDAB2D6B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9BCD-0655-45B9-92CC-1495539357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4D6B-75FF-42C9-A745-9BDEDC7FE4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AEFF-F6DC-4FC8-86B0-BA5460027C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06C9-B04A-409D-8C80-DF1EB7AA12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BD55-CDB9-465B-AC56-AC95330BEF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D645-D60D-4065-AD6A-B21A62963F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3CA1-1866-46A2-9AFB-85C1D5006E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7099-2BEE-47A4-8B5F-541D7528F5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2C36-DDCF-428D-9D38-8E3AD9D68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9F58-8583-4DA4-B9B8-3B36219D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2106-33FE-47F5-AB5B-97B80253B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26B3-DB25-4CE6-9185-E0ADFB75B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7AFA-003A-4AF0-9C21-9B67B852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EA89-BD07-4D6F-B6BD-3507EB35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3E10-D747-4DC2-9EF3-5BD2DEEC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1818-0F86-4E41-B83B-CE9278E6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1365-5790-4A6A-8E9C-F95B66D7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CC7E-0971-4D5B-9F35-1A417BE3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6237-818B-4017-9CF0-CF5F3FC4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F60A-0AE0-433F-A945-A8E183B0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28E9-2401-4F00-8721-75F579A275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250920" y="765000"/>
            <a:ext cx="86421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оммерческое объединение производителей и потреб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родных строительных матери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"/>
          <p:cNvSpPr/>
          <p:nvPr/>
        </p:nvSpPr>
        <p:spPr>
          <a:xfrm>
            <a:off x="250920" y="407664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0 л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5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546840" y="744480"/>
            <a:ext cx="28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КРАИНСКИЙ ЩЕБ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Диаграмма 6" descr=""/>
          <p:cNvPicPr/>
          <p:nvPr/>
        </p:nvPicPr>
        <p:blipFill>
          <a:blip r:embed="rId1"/>
          <a:stretch/>
        </p:blipFill>
        <p:spPr>
          <a:xfrm>
            <a:off x="0" y="1231920"/>
            <a:ext cx="9144000" cy="389412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1589760" y="5373720"/>
            <a:ext cx="59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егодняшний день поставле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ыше 20 млн.т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%) на сумм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ее 22 млрд. ру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500040" y="857160"/>
            <a:ext cx="831996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654120" y="2421000"/>
            <a:ext cx="8001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Ассоциация _Недра"/>
          <p:cNvPicPr/>
          <p:nvPr/>
        </p:nvPicPr>
        <p:blipFill>
          <a:blip r:embed="rId1"/>
          <a:stretch/>
        </p:blipFill>
        <p:spPr>
          <a:xfrm>
            <a:off x="2122560" y="5024520"/>
            <a:ext cx="695160" cy="7412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2470320" y="5013360"/>
            <a:ext cx="534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ссоциация «Недра» г.Моск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d"/>
                </a:solidFill>
                <a:latin typeface="Arial"/>
              </a:rPr>
              <a:t>www.nedra2004.r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-mail: info@nedra2004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л.(499)685-15-76, (499)685-11-27, 685-11-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498600" y="1069200"/>
            <a:ext cx="8146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перевозках грузов железнодорожным транспортом в сегменте повагонных и мелких групповых отпра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(нерудные строительные материал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4849920" y="494172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ргеев В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полнительный директор ассоциации «Недр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15800" y="3067200"/>
          <a:ext cx="8229600" cy="1301760"/>
        </p:xfrm>
        <a:graphic>
          <a:graphicData uri="http://schemas.openxmlformats.org/drawingml/2006/table">
            <a:tbl>
              <a:tblPr/>
              <a:tblGrid>
                <a:gridCol w="1413000"/>
                <a:gridCol w="568440"/>
                <a:gridCol w="568080"/>
                <a:gridCol w="568440"/>
                <a:gridCol w="568440"/>
                <a:gridCol w="566640"/>
                <a:gridCol w="568440"/>
                <a:gridCol w="568080"/>
                <a:gridCol w="568440"/>
                <a:gridCol w="568440"/>
                <a:gridCol w="566640"/>
                <a:gridCol w="568440"/>
                <a:gridCol w="568080"/>
              </a:tblGrid>
              <a:tr h="433080">
                <a:tc rowSpan="2"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Продук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7"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Объемы производ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В % к докризисному объему производ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  <a:ea typeface="Calibri"/>
                        </a:rPr>
                        <a:t>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27120">
                <a:tc>
                  <a:txBody>
                    <a:bodyPr lIns="24120" rIns="24120" tIns="24120" bIns="241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Материалы строительные неруд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9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2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6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1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7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1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2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7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8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9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9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  <a:ea typeface="Calibri"/>
                        </a:rPr>
                        <a:t>92-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62" name="Rectangle 2"/>
          <p:cNvSpPr/>
          <p:nvPr/>
        </p:nvSpPr>
        <p:spPr>
          <a:xfrm>
            <a:off x="442800" y="1677240"/>
            <a:ext cx="814716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Объемы производства нерудных строительных материалов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в 2007-2014 гг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(млн.куб.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5120" y="2633760"/>
          <a:ext cx="8229600" cy="1658880"/>
        </p:xfrm>
        <a:graphic>
          <a:graphicData uri="http://schemas.openxmlformats.org/drawingml/2006/table">
            <a:tbl>
              <a:tblPr/>
              <a:tblGrid>
                <a:gridCol w="1370160"/>
                <a:gridCol w="792000"/>
                <a:gridCol w="720720"/>
                <a:gridCol w="936720"/>
                <a:gridCol w="792000"/>
                <a:gridCol w="935280"/>
                <a:gridCol w="792000"/>
                <a:gridCol w="936720"/>
                <a:gridCol w="954000"/>
              </a:tblGrid>
              <a:tr h="9954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Г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(прогноз был 48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(по итога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0 месяце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6348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Доля железной дороги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Более 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4,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4,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0,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7,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66" name="Rectangle 1"/>
          <p:cNvSpPr/>
          <p:nvPr/>
        </p:nvSpPr>
        <p:spPr>
          <a:xfrm>
            <a:off x="441360" y="1147320"/>
            <a:ext cx="821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Доля железной дороги в перевозке нерудных строительных материа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(в % от общего объема производств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Диаграмма 7"/>
          <p:cNvGraphicFramePr/>
          <p:nvPr/>
        </p:nvGraphicFramePr>
        <p:xfrm>
          <a:off x="100080" y="1793880"/>
          <a:ext cx="9094680" cy="36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Диаграмма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80" y="1793880"/>
                    <a:ext cx="909468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TextBox 1"/>
          <p:cNvSpPr/>
          <p:nvPr/>
        </p:nvSpPr>
        <p:spPr>
          <a:xfrm>
            <a:off x="1285560" y="1125360"/>
            <a:ext cx="721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изводство НСМ (млн. куб.м) и темпы погрузки на сети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57120" y="765000"/>
            <a:ext cx="832032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4" descr=""/>
          <p:cNvPicPr/>
          <p:nvPr/>
        </p:nvPicPr>
        <p:blipFill>
          <a:blip r:embed="rId1"/>
          <a:stretch/>
        </p:blipFill>
        <p:spPr>
          <a:xfrm>
            <a:off x="530280" y="3067200"/>
            <a:ext cx="8083440" cy="2681280"/>
          </a:xfrm>
          <a:prstGeom prst="rect">
            <a:avLst/>
          </a:prstGeom>
          <a:ln w="0">
            <a:noFill/>
          </a:ln>
        </p:spPr>
      </p:pic>
      <p:sp>
        <p:nvSpPr>
          <p:cNvPr id="76" name="TextBox 1"/>
          <p:cNvSpPr/>
          <p:nvPr/>
        </p:nvSpPr>
        <p:spPr>
          <a:xfrm>
            <a:off x="539640" y="898560"/>
            <a:ext cx="792000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Не смотря на такое снижение объемов перевозок ж/д транспортом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развитие рынка услуг для перевозок насыпных грузов оста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приоритетным в планах развития ОАО РЖ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Из доклада Бабаева С.М. «Перевозочный процес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Новые подходы к повышению качества обслуживания клиентов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на конференции «Рынок транспортных услуг: взаимодействие и партнерств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57120" y="765000"/>
            <a:ext cx="832032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Что стало причинами снижения объемов перевозок ж/д транспрортом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общее снижение объемов производства нерудных материал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рост объемов использования местного сырья в пределах одного регио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рост тарифов на перевозки ж/д транспортом (часто нерегулируемый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ряд других причин, 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ГЛАВНАЯ ПРИЧИНА – ТАРИФ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Наиболее серьезно влияют на снижение объемов перевозок тарифы не РЖД, а частных опера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Используя демпинговые тарифы (-10 – 20% от Прейскуранта 10-01) они «уводят» грузовладельцев от РЖД, а в случае изменения ситуации на рынке – оставля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ример – прошлогодний всплеск тарифов в августе-сентябре на вагонную составляющую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ричина – возврат РЖД около 100 тысяч вагонов парка ВСП их владельцу ФГ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ричиной этого всплеска стал не только рост тарифов ФГК, а фактическ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мультипликативны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эффект от возврата к реальным тарифам частных операторов (которые везли грузы по ставке минус 20% к Прейскуранту 10-01) и уже названный рост тарифов ФГК, что в результате составил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более 37%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о всем направления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357120" y="765000"/>
            <a:ext cx="832032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357120" y="765000"/>
            <a:ext cx="8462880" cy="25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о расчетам ОАО "НИИАС",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избыток парка грузовых вагон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на сети ОАО "РЖД" в текущем году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составил 232 тыс. вагонов или 20% пар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, что в условиях дефицита инфраструктуры крайне негативно влияет на работу железнодорожного транспорта. При этом потери несет не только ОАО "РЖД", но и остальные участники перевозочного процесса. По оценкам специалистов, за 9 месяцев текущего год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отер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операторского сообщества, грузоотправителей и грузополучателей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составили более 34 млрд рубл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Такие данные привел старший вице-президент ОАО "РЖД” Анатолий Красношек. выступая в рамках пленарной дискуссии XII международной конференции "Рынок транспортных услуг: взаимодействие и партнерство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4" descr=""/>
          <p:cNvPicPr/>
          <p:nvPr/>
        </p:nvPicPr>
        <p:blipFill>
          <a:blip r:embed="rId1"/>
          <a:stretch/>
        </p:blipFill>
        <p:spPr>
          <a:xfrm>
            <a:off x="611280" y="3141720"/>
            <a:ext cx="4178160" cy="222732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4932360" y="3413160"/>
            <a:ext cx="3456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Основу этого «избыточного» парка составляют (будут составлять) вагоны частных операторов и в любой момент грузовладельцы, пользующиеся их услугами могут оказаться у «разбитого корыта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987480" y="5508720"/>
            <a:ext cx="720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Таких примеров множество, а результат всегда один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за все заплатит грузовладелец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5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539640" y="744480"/>
            <a:ext cx="813780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Что необходимо (возможно) сделать для нормализации и улучшения ситуа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1. Учитывая, что сложившиеся тарифы на перевозку у частных операторов сегодня составляют 75-80% от тарифов Прейскуранта 10-01,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предприятия отрасли считают возможным обсудить вариант заключения долгосрочных договоров при условии применения гибких скидок в размере не менее 75% от скидок частных операторов на данном направлении перевоз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Например, ставка частного оператора на данном направлении составляет 80% от тарифа Прейскуранта 10-01, предлагаемая ЦФТО ставка должна быть не более 85% от тарифа Прейскуранта 10-0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Предлагаемый подход к определению размеров тарифных ставок будет способствовать привлечению предприятий отрасли к заключению долгосрочных договоров, окажет стабилизирующее воздействие на цены на рынке железнодорожных перевозок природных строительных материалов, обеспечит ОАО «РЖД» получение стабильного дохода при перевозке данного класса груз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07:55:29Z</dcterms:created>
  <dc:creator>Катя</dc:creator>
  <dc:description/>
  <dc:language>en-US</dc:language>
  <cp:lastModifiedBy>VSergeev</cp:lastModifiedBy>
  <cp:lastPrinted>2013-09-21T16:11:20Z</cp:lastPrinted>
  <dcterms:modified xsi:type="dcterms:W3CDTF">2014-11-12T07:01:40Z</dcterms:modified>
  <cp:revision>109</cp:revision>
  <dc:subject/>
  <dc:title>Слайд 1</dc:title>
</cp:coreProperties>
</file>