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C7DD-A930-4D79-AF92-CB26DD001E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F918-58E3-429B-A81A-5F9A9A3ADF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2F84-73DD-45E0-9572-A22638EF9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57F7-95B8-4E95-9711-6FD43003D4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7EC0-B062-45AB-BC69-AFCCC1C117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FDF9-4838-419A-BC9B-BA9C4C0FC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33A9-354C-4ACE-B863-90F71175D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7F50-00A0-465E-9C31-0ABABA5D6A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8957-9BB3-41FC-924B-7E1A1D8FFF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250C-6A8B-465E-92FE-C7477C0ED6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D65D-6EF2-4752-B00D-B868DB85DA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8FF1-4306-4E21-948A-BB011CE91E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261-F8C2-47B5-9FD2-804FE56E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AED3-3A2F-4D1D-AD7F-6983EC53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3AF-12A7-4817-A0E0-88D8F95F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19F9-55E7-4277-B73A-B3197864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9F3-D74F-469A-9281-4467162C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1FC-0A3C-4D1A-B235-563B3186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819-77B6-4B62-AC32-06034558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5F4-293F-43D5-8C61-C483789F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995-B61E-416F-A800-3F7BA0EF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406-1F71-4766-8CDE-C4E17EEB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AEF-7BFB-4570-AA61-160073BF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64C-99B8-41B4-A022-5B4B9FF1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D422-8581-4733-91EA-3A02E0416E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ммерческое объединение производителей и потреб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ных строительны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250920" y="407664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546840" y="7444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КРАИНСКИЙ ЩЕБ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Диаграмма 6" descr=""/>
          <p:cNvPicPr/>
          <p:nvPr/>
        </p:nvPicPr>
        <p:blipFill>
          <a:blip r:embed="rId1"/>
          <a:stretch/>
        </p:blipFill>
        <p:spPr>
          <a:xfrm>
            <a:off x="0" y="1231920"/>
            <a:ext cx="9144000" cy="3894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89760" y="5373720"/>
            <a:ext cx="59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постав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ыше 20 млн.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%) на сумм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22 млрд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00040" y="857160"/>
            <a:ext cx="8319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54120" y="2421000"/>
            <a:ext cx="8001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Ассоциация _Недра"/>
          <p:cNvPicPr/>
          <p:nvPr/>
        </p:nvPicPr>
        <p:blipFill>
          <a:blip r:embed="rId1"/>
          <a:stretch/>
        </p:blipFill>
        <p:spPr>
          <a:xfrm>
            <a:off x="2122560" y="5024520"/>
            <a:ext cx="695160" cy="741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2470320" y="5013360"/>
            <a:ext cx="534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социация «Недра» г.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www.nedra2004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info@nedra2004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.(499)685-15-76, (499)685-11-27, 685-11-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98600" y="1069200"/>
            <a:ext cx="814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еревозках грузов железнодорожным транспортом в сегменте повагонных и мелких групповых отпра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нерудные строительные матери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4849920" y="49417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ев В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нительный директор ассоциации «Нед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5800" y="3067200"/>
          <a:ext cx="8229600" cy="1301760"/>
        </p:xfrm>
        <a:graphic>
          <a:graphicData uri="http://schemas.openxmlformats.org/drawingml/2006/table">
            <a:tbl>
              <a:tblPr/>
              <a:tblGrid>
                <a:gridCol w="141300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</a:tblGrid>
              <a:tr h="433080">
                <a:tc rowSpan="2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Проду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7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Объемы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 % к докризисному объему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2712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Материалы строительные неруд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9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6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7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1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7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8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92-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2"/>
          <p:cNvSpPr/>
          <p:nvPr/>
        </p:nvSpPr>
        <p:spPr>
          <a:xfrm>
            <a:off x="442800" y="1677240"/>
            <a:ext cx="81471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Объемы производства нерудных строительных материал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2007-2014 гг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(млн.куб.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5120" y="2633760"/>
          <a:ext cx="8229600" cy="1658880"/>
        </p:xfrm>
        <a:graphic>
          <a:graphicData uri="http://schemas.openxmlformats.org/drawingml/2006/table">
            <a:tbl>
              <a:tblPr/>
              <a:tblGrid>
                <a:gridCol w="1370160"/>
                <a:gridCol w="792000"/>
                <a:gridCol w="720720"/>
                <a:gridCol w="936720"/>
                <a:gridCol w="792000"/>
                <a:gridCol w="935280"/>
                <a:gridCol w="792000"/>
                <a:gridCol w="936720"/>
                <a:gridCol w="954000"/>
              </a:tblGrid>
              <a:tr h="9954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рогноз был 4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о итог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0 месяце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3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Доля железной дороги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олее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0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7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441360" y="1147320"/>
            <a:ext cx="82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оля железной дороги в перевозке нерудных 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 % от общего объема производ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Диаграмма 7"/>
          <p:cNvGraphicFramePr/>
          <p:nvPr/>
        </p:nvGraphicFramePr>
        <p:xfrm>
          <a:off x="100080" y="1793880"/>
          <a:ext cx="9094680" cy="36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793880"/>
                    <a:ext cx="90946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Box 1"/>
          <p:cNvSpPr/>
          <p:nvPr/>
        </p:nvSpPr>
        <p:spPr>
          <a:xfrm>
            <a:off x="1285560" y="1125360"/>
            <a:ext cx="72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во НСМ (млн. куб.м) и темпы погрузки на сети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530280" y="3067200"/>
            <a:ext cx="8083440" cy="2681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539640" y="898560"/>
            <a:ext cx="79200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смотря на такое снижение объемов перевозок ж/д транспорто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рынка услуг для перевозок насыпных грузов ост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ным в планах развития ОАО РЖ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з доклада Бабаева С.М. «Перевозочный процес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овые подходы к повышению качества обслуживания клиент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а конференции «Рынок транспортных услуг: взаимодействие и партнер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Что стало причинами снижения объемов перевозок ж/д транспрорто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общее снижение объемов производства нерудных 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объемов использования местного сырья в пределах одного реги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тарифов на перевозки ж/д транспортом (часто нерегулируемы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яд других причин, 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ГЛАВНАЯ ПРИЧИНА – ТАРИФ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Наиболее серьезно влияют на снижение объемов перевозок тарифы не РЖД, а частных опер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спользуя демпинговые тарифы (-10 – 20% от Прейскуранта 10-01) они «уводят» грузовладельцев от РЖД, а в случае изменения ситуации на рынке – остав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мер – прошлогодний всплеск тарифов в августе-сентябре на вагонную составляющую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а – возврат РЖД около 100 тысяч вагонов парка ВСП их владельцу ФГ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ой этого всплеска стал не только рост тарифов ФГК, а фактическ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мультипликатив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эффект от возврата к реальным тарифам частных операторов (которые везли грузы по ставке минус 20% к Прейскуранту 10-01) и уже названный рост тарифов ФГК, что в результате состави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более 37%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всем направлен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57120" y="765000"/>
            <a:ext cx="846288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расчетам ОАО "НИИАС"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избыток парка грузовых вагон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на сети ОАО "РЖД" в текущем год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составил 232 тыс. вагонов или 20% пар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, что в условиях дефицита инфраструктуры крайне негативно влияет на работу железнодорожного транспорта. При этом потери несет не только ОАО "РЖД", но и остальные участники перевозочного процесса. По оценкам специалистов, за 9 месяцев текущего год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те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ператорского сообщества, грузоотправителей и грузополучателе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оставили более 34 млрд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Такие данные привел старший вице-президент ОАО "РЖД” Анатолий Красношек. выступая в рамках пленарной дискуссии XII международной конференции "Рынок транспортных услуг: взаимодействие и партнерство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4178160" cy="2227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932360" y="3413160"/>
            <a:ext cx="345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снову этого «избыточного» парка составляют (будут составлять) вагоны частных операторов и в любой момент грузовладельцы, пользующиеся их услугами могут оказаться у «разбитого корыт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987480" y="5508720"/>
            <a:ext cx="720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Таких примеров множество, а результат всегда один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за все заплатит грузовладелец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539640" y="744480"/>
            <a:ext cx="8137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то необходимо (возможно) сделать для нормализации и улучшения ситу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Учитывая, что сложившиеся тарифы на перевозку у частных операторов сегодня составляют 75-80% от тарифов Прейскуранта 10-01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предприятия отрасли считают возможным обсудить вариант заключения долгосрочных договоров при условии применения гибких скидок в размере не менее 75% от скидок частных операторов на данном направлении перевоз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пример, ставка частного оператора на данном направлении составляет 80% от тарифа Прейскуранта 10-01, предлагаемая ЦФТО ставка должна быть не более 85% от тарифа Прейскуранта 10-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Предлагаемый подход к определению размеров тарифных ставок будет способствовать привлечению предприятий отрасли к заключению долгосрочных договоров, окажет стабилизирующее воздействие на цены на рынке железнодорожных перевозок природных строительных материалов, обеспечит ОАО «РЖД» получение стабильного дохода при перевозке данного класса груз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7:55:29Z</dcterms:created>
  <dc:creator>Катя</dc:creator>
  <dc:description/>
  <dc:language>en-US</dc:language>
  <cp:lastModifiedBy>VSergeev</cp:lastModifiedBy>
  <cp:lastPrinted>2013-09-21T16:11:20Z</cp:lastPrinted>
  <dcterms:modified xsi:type="dcterms:W3CDTF">2014-11-12T07:01:40Z</dcterms:modified>
  <cp:revision>109</cp:revision>
  <dc:subject/>
  <dc:title>Слайд 1</dc:title>
</cp:coreProperties>
</file>