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F982-8D1A-486C-BFE7-620E955359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8BF3-BBBB-4A4A-A027-F4ED069D2F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C052-1916-47D6-9AFD-DD0BD10380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B50C-53F2-4E57-8996-6B84F94A0A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BE8B-C16C-44CA-AC1E-87F2525D08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0995-D50A-47D6-A892-D35E5F5820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AC88-6C86-403D-82A6-C6CE7761F6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F5EB-1D78-4EAF-BACB-1DADBC0A00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284C-74C6-43E4-947B-55215C4620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33B7-BD1E-49A7-9BC9-2AA67A97E0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F7CD-9EA4-4982-9154-994963C8A3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0490-C61C-48D4-865B-DDDEBB836F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7596-01D1-4393-B862-8EEE2D6D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081D-283C-49AB-AD9A-ED4FAA03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506-65F3-424E-A46E-2FFF97FE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E01-5B87-4CA7-9DCF-D9437D44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EE41-B83F-4064-8E7B-6FAC256E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A53-E41A-4B1E-B272-C8642475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98F-166D-404D-98E2-9B688E33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7944-7303-4E5A-82C8-A9BCCF4F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52C6-60FB-4E15-9DD0-DF879A67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EA0-B906-4AA5-8DFA-FCCA9150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325-A618-4398-AFBC-3B89FC3A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3A19-F154-49EA-BC07-3F30327F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5B0C-2589-484A-9146-50E484DB5B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50920" y="765000"/>
            <a:ext cx="8642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ммерческое объединение производителей и потреб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ных строительны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250920" y="407664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0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546840" y="7444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КРАИНСКИЙ ЩЕБ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Диаграмма 6" descr=""/>
          <p:cNvPicPr/>
          <p:nvPr/>
        </p:nvPicPr>
        <p:blipFill>
          <a:blip r:embed="rId1"/>
          <a:stretch/>
        </p:blipFill>
        <p:spPr>
          <a:xfrm>
            <a:off x="0" y="1231920"/>
            <a:ext cx="9144000" cy="3894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589760" y="5373720"/>
            <a:ext cx="59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годняшний день поставл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ыше 20 млн.т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%) на сумм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 22 млрд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00040" y="857160"/>
            <a:ext cx="83199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54120" y="2421000"/>
            <a:ext cx="8001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Ассоциация _Недра"/>
          <p:cNvPicPr/>
          <p:nvPr/>
        </p:nvPicPr>
        <p:blipFill>
          <a:blip r:embed="rId1"/>
          <a:stretch/>
        </p:blipFill>
        <p:spPr>
          <a:xfrm>
            <a:off x="2122560" y="5024520"/>
            <a:ext cx="695160" cy="741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2470320" y="5013360"/>
            <a:ext cx="534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ссоциация «Недра» г.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www.nedra2004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 info@nedra2004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.(499)685-15-76, (499)685-11-27, 685-11-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98600" y="1069200"/>
            <a:ext cx="814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еревозках грузов железнодорожным транспортом в сегменте повагонных и мелких групповых отпра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(нерудные строительные материа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4849920" y="49417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геев В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нительный директор ассоциации «Нед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15800" y="3067200"/>
          <a:ext cx="8229600" cy="1301760"/>
        </p:xfrm>
        <a:graphic>
          <a:graphicData uri="http://schemas.openxmlformats.org/drawingml/2006/table">
            <a:tbl>
              <a:tblPr/>
              <a:tblGrid>
                <a:gridCol w="141300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</a:tblGrid>
              <a:tr h="433080">
                <a:tc rowSpan="2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Проду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7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Объемы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 % к докризисному объему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27120"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Материалы строительные неруд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9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6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7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1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7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8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92-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2" name="Rectangle 2"/>
          <p:cNvSpPr/>
          <p:nvPr/>
        </p:nvSpPr>
        <p:spPr>
          <a:xfrm>
            <a:off x="442800" y="1677240"/>
            <a:ext cx="814716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Объемы производства нерудных строительных материал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 2007-2014 гг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(млн.куб.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5120" y="2633760"/>
          <a:ext cx="8229600" cy="1658880"/>
        </p:xfrm>
        <a:graphic>
          <a:graphicData uri="http://schemas.openxmlformats.org/drawingml/2006/table">
            <a:tbl>
              <a:tblPr/>
              <a:tblGrid>
                <a:gridCol w="1370160"/>
                <a:gridCol w="792000"/>
                <a:gridCol w="720720"/>
                <a:gridCol w="936720"/>
                <a:gridCol w="792000"/>
                <a:gridCol w="935280"/>
                <a:gridCol w="792000"/>
                <a:gridCol w="936720"/>
                <a:gridCol w="954000"/>
              </a:tblGrid>
              <a:tr h="9954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рогноз был 4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о итог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0 месяце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34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Доля железной дороги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олее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0,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7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441360" y="1147320"/>
            <a:ext cx="821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Доля железной дороги в перевозке нерудных строительных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 % от общего объема производст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Диаграмма 7"/>
          <p:cNvGraphicFramePr/>
          <p:nvPr/>
        </p:nvGraphicFramePr>
        <p:xfrm>
          <a:off x="100080" y="1793880"/>
          <a:ext cx="9094680" cy="36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Диаграмма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1793880"/>
                    <a:ext cx="90946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Box 1"/>
          <p:cNvSpPr/>
          <p:nvPr/>
        </p:nvSpPr>
        <p:spPr>
          <a:xfrm>
            <a:off x="1285560" y="1125360"/>
            <a:ext cx="72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ство НСМ (млн. куб.м) и темпы погрузки на сети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530280" y="3067200"/>
            <a:ext cx="8083440" cy="2681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539640" y="898560"/>
            <a:ext cx="792000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 смотря на такое снижение объемов перевозок ж/д транспортом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звитие рынка услуг для перевозок насыпных грузов ост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иоритетным в планах развития ОАО РЖ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з доклада Бабаева С.М. «Перевозочный процес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овые подходы к повышению качества обслуживания клиент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а конференции «Рынок транспортных услуг: взаимодействие и партнер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Что стало причинами снижения объемов перевозок ж/д транспрорто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общее снижение объемов производства нерудных материал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объемов использования местного сырья в пределах одного регио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тарифов на перевозки ж/д транспортом (часто нерегулируемы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яд других причин, 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ГЛАВНАЯ ПРИЧИНА – ТАРИФ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Наиболее серьезно влияют на снижение объемов перевозок тарифы не РЖД, а частных опера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Используя демпинговые тарифы (-10 – 20% от Прейскуранта 10-01) они «уводят» грузовладельцев от РЖД, а в случае изменения ситуации на рынке – оставл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мер – прошлогодний всплеск тарифов в августе-сентябре на вагонную составляющую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а – возврат РЖД около 100 тысяч вагонов парка ВСП их владельцу ФГ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ой этого всплеска стал не только рост тарифов ФГК, а фактическ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мультипликативны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эффект от возврата к реальным тарифам частных операторов (которые везли грузы по ставке минус 20% к Прейскуранту 10-01) и уже названный рост тарифов ФГК, что в результате состави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более 37%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всем направлен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57120" y="765000"/>
            <a:ext cx="8462880" cy="25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расчетам ОАО "НИИАС"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избыток парка грузовых вагон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на сети ОАО "РЖД" в текущем год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составил 232 тыс. вагонов или 20% пар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, что в условиях дефицита инфраструктуры крайне негативно влияет на работу железнодорожного транспорта. При этом потери несет не только ОАО "РЖД", но и остальные участники перевозочного процесса. По оценкам специалистов, за 9 месяцев текущего год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тер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ператорского сообщества, грузоотправителей и грузополучателе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составили более 34 млрд руб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Такие данные привел старший вице-президент ОАО "РЖД” Анатолий Красношек. выступая в рамках пленарной дискуссии XII международной конференции "Рынок транспортных услуг: взаимодействие и партнерство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4178160" cy="2227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4932360" y="3413160"/>
            <a:ext cx="345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Основу этого «избыточного» парка составляют (будут составлять) вагоны частных операторов и в любой момент грузовладельцы, пользующиеся их услугами могут оказаться у «разбитого корыт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987480" y="5508720"/>
            <a:ext cx="720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Таких примеров множество, а результат всегда один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за все заплатит грузовладелец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539640" y="744480"/>
            <a:ext cx="8137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Что необходимо (возможно) сделать для нормализации и улучшения ситу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Учитывая, что сложившиеся тарифы на перевозку у частных операторов сегодня составляют 75-80% от тарифов Прейскуранта 10-01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предприятия отрасли считают возможным обсудить вариант заключения долгосрочных договоров при условии применения гибких скидок в размере не менее 75% от скидок частных операторов на данном направлении перевоз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Например, ставка частного оператора на данном направлении составляет 80% от тарифа Прейскуранта 10-01, предлагаемая ЦФТО ставка должна быть не более 85% от тарифа Прейскуранта 10-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Предлагаемый подход к определению размеров тарифных ставок будет способствовать привлечению предприятий отрасли к заключению долгосрочных договоров, окажет стабилизирующее воздействие на цены на рынке железнодорожных перевозок природных строительных материалов, обеспечит ОАО «РЖД» получение стабильного дохода при перевозке данного класса груз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07:55:29Z</dcterms:created>
  <dc:creator>Катя</dc:creator>
  <dc:description/>
  <dc:language>en-US</dc:language>
  <cp:lastModifiedBy>VSergeev</cp:lastModifiedBy>
  <cp:lastPrinted>2013-09-21T16:11:20Z</cp:lastPrinted>
  <dcterms:modified xsi:type="dcterms:W3CDTF">2014-11-12T07:01:40Z</dcterms:modified>
  <cp:revision>109</cp:revision>
  <dc:subject/>
  <dc:title>Слайд 1</dc:title>
</cp:coreProperties>
</file>