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3.jpeg" ContentType="image/jpeg"/>
  <Override PartName="/ppt/media/image30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2B4B-F92D-4CCA-8100-ED53A2F94C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2E93-9299-4FDD-A075-42EFF926A5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59C6-C1A4-459F-9094-D16F78C84F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B614-3436-41FF-B1E1-A4314F3569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BE26-0E4F-4F0F-B7C2-659A4F363D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4401-4792-4665-B5A3-FBC64CDB64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5674DE7A-C6D2-460F-881E-633B97EBA8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14BA-9200-4E57-8F28-D433EA50A6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036-8618-4337-B8B3-221D3FC1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654-B68A-4DB9-928F-99B2993E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D7B-612E-4B14-B86B-A6026F43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079-1781-4D26-98E5-3DAD01CB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A02-F7EF-4B75-B0A8-11EDE4E1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EB1-DA4C-4EFB-AA65-9CDCA4A9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CE5-859D-4CD3-B7E3-CFE08425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B9B-1BE0-4F28-8F3F-9A8FAC1A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EC5-86E7-44BA-B40B-700BB51B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09D-3330-425C-9B5A-78E02899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DEE-17CA-4B20-92D6-3E3F5C30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B24-CE2B-47FE-B692-98AC10D7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01F6-876F-4345-9B09-EBF8D376D33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0CDD-2B10-4234-BC5F-60DB386DB0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1554120"/>
            <a:ext cx="762624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ства вагонов с улучшенными характеристиками для горнорудной отрасл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5280" y="259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коммерческое партнерство производителей и пользователей железнодорожного подвижного со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ДИНЕНИЕ ВАГОНОСТРО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0"/>
          <p:cNvSpPr/>
          <p:nvPr/>
        </p:nvSpPr>
        <p:spPr>
          <a:xfrm>
            <a:off x="3939480" y="5546880"/>
            <a:ext cx="1933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2 ноября 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844560" y="37162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ренов Василий Андрееви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ительный директор 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 "Объединение вагоностроителе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AB14-DE8C-4B07-96D7-F5C04F226A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1"/>
          <p:cNvSpPr/>
          <p:nvPr/>
        </p:nvSpPr>
        <p:spPr>
          <a:xfrm>
            <a:off x="1598760" y="331920"/>
            <a:ext cx="720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ст рынка и доли производства инновационных полуваг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33440" y="2565360"/>
          <a:ext cx="8386560" cy="399276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  <a:gridCol w="1584360"/>
                <a:gridCol w="1403280"/>
                <a:gridCol w="1511280"/>
              </a:tblGrid>
              <a:tr h="79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рий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ов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я выпуска инновационных вагонов в общем выпус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1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3 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2 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6 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0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 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 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6 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7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 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395280" y="1255680"/>
          <a:ext cx="8569440" cy="1146240"/>
        </p:xfrm>
        <a:graphic>
          <a:graphicData uri="http://schemas.openxmlformats.org/drawingml/2006/table">
            <a:tbl>
              <a:tblPr/>
              <a:tblGrid>
                <a:gridCol w="1928880"/>
                <a:gridCol w="855720"/>
                <a:gridCol w="855720"/>
                <a:gridCol w="1501560"/>
                <a:gridCol w="855720"/>
                <a:gridCol w="1065240"/>
                <a:gridCol w="150660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изводство полуваго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(общее пр-во полувагон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 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2,2%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прогноз по году -8,1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с нагрузкой на ось 25т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2,7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ABD5-06F0-4E9E-A1C1-2ACD1222D9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203640" y="246240"/>
            <a:ext cx="519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новационные полувагоны (25 т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12-2141"/>
          <p:cNvPicPr/>
          <p:nvPr/>
        </p:nvPicPr>
        <p:blipFill>
          <a:blip r:embed="rId1"/>
          <a:stretch/>
        </p:blipFill>
        <p:spPr>
          <a:xfrm>
            <a:off x="4629240" y="1065240"/>
            <a:ext cx="22651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4619520" y="2235240"/>
          <a:ext cx="2113200" cy="4456080"/>
        </p:xfrm>
        <a:graphic>
          <a:graphicData uri="http://schemas.openxmlformats.org/drawingml/2006/table">
            <a:tbl>
              <a:tblPr/>
              <a:tblGrid>
                <a:gridCol w="1351080"/>
                <a:gridCol w="76212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2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тай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24000" y="1004760"/>
            <a:ext cx="1976400" cy="121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73160" y="2244600"/>
          <a:ext cx="2251080" cy="4137120"/>
        </p:xfrm>
        <a:graphic>
          <a:graphicData uri="http://schemas.openxmlformats.org/drawingml/2006/table">
            <a:tbl>
              <a:tblPr/>
              <a:tblGrid>
                <a:gridCol w="1662120"/>
                <a:gridCol w="588960"/>
              </a:tblGrid>
              <a:tr h="362160">
                <a:tc>
                  <a:txBody>
                    <a:bodyPr lIns="6688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88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96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7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2411280" y="1219320"/>
            <a:ext cx="221796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2556000" y="2243160"/>
          <a:ext cx="1984320" cy="4416480"/>
        </p:xfrm>
        <a:graphic>
          <a:graphicData uri="http://schemas.openxmlformats.org/drawingml/2006/table">
            <a:tbl>
              <a:tblPr/>
              <a:tblGrid>
                <a:gridCol w="1395360"/>
                <a:gridCol w="588960"/>
              </a:tblGrid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9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С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9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ER S-2-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Рисунок 4" descr=""/>
          <p:cNvPicPr/>
          <p:nvPr/>
        </p:nvPicPr>
        <p:blipFill>
          <a:blip r:embed="rId4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5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8E01-F097-42A8-8363-C566C3904A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2" descr="E:\DOC\`Сувенирка`\2010\Каталог 2010\Новый материал\Вагоны\Вагон 1304\DSCF1028.JPG"/>
          <p:cNvPicPr/>
          <p:nvPr/>
        </p:nvPicPr>
        <p:blipFill>
          <a:blip r:embed="rId5"/>
          <a:stretch/>
        </p:blipFill>
        <p:spPr>
          <a:xfrm>
            <a:off x="6819840" y="720720"/>
            <a:ext cx="2259000" cy="16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904080" y="2222640"/>
          <a:ext cx="2087640" cy="4246560"/>
        </p:xfrm>
        <a:graphic>
          <a:graphicData uri="http://schemas.openxmlformats.org/drawingml/2006/table">
            <a:tbl>
              <a:tblPr/>
              <a:tblGrid>
                <a:gridCol w="1336680"/>
                <a:gridCol w="75096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304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трактор-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9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37DB-E930-47DC-B0A3-DB28177C47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547560" y="189000"/>
            <a:ext cx="7128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тановление №4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убсидии Минпромторг при покупке  инновационных полувагон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"/>
          <p:cNvSpPr/>
          <p:nvPr/>
        </p:nvSpPr>
        <p:spPr>
          <a:xfrm>
            <a:off x="1971720" y="152388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"/>
          <p:cNvSpPr/>
          <p:nvPr/>
        </p:nvSpPr>
        <p:spPr>
          <a:xfrm>
            <a:off x="3635280" y="2198520"/>
            <a:ext cx="0" cy="4392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89000" y="1152360"/>
            <a:ext cx="145260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ст.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2141640" y="1170000"/>
            <a:ext cx="104436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4111560" y="1185840"/>
            <a:ext cx="104472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5-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41400" y="2154240"/>
            <a:ext cx="19555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лизинговой компании  единовременную скидку в размер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лизинговой компании компенсацию её потер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мере 90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ставки рефинансирования на лизинговый платеж, но не боле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2"/>
          <p:cNvSpPr/>
          <p:nvPr/>
        </p:nvSpPr>
        <p:spPr>
          <a:xfrm>
            <a:off x="160200" y="1581120"/>
            <a:ext cx="22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3"/>
          <p:cNvSpPr/>
          <p:nvPr/>
        </p:nvSpPr>
        <p:spPr>
          <a:xfrm>
            <a:off x="1992240" y="1536840"/>
            <a:ext cx="355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 ил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--  прямой покуп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6"/>
          <p:cNvSpPr/>
          <p:nvPr/>
        </p:nvSpPr>
        <p:spPr>
          <a:xfrm>
            <a:off x="1996920" y="2166840"/>
            <a:ext cx="156708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3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обретении инновационного вагона МИНРОМТОРГ предоставляет прямому покупателю или лизинговой компании (при наличии пакета документов и договора с МИНПРОМТОРГ) компенсацию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60 000,00 рубл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нет старого вагона, то тольк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5"/>
          <p:cNvSpPr/>
          <p:nvPr/>
        </p:nvSpPr>
        <p:spPr>
          <a:xfrm>
            <a:off x="3657600" y="2151000"/>
            <a:ext cx="21128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ли лизинговой компании  единовременную скидку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лизинговой компании компенсацию её потерь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размере 90%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ставки рефинансирования на лизинговый платеж, но не боле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2022480" y="6186600"/>
            <a:ext cx="174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Добавление действуют только в 2014 го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0"/>
          <p:cNvSpPr/>
          <p:nvPr/>
        </p:nvSpPr>
        <p:spPr>
          <a:xfrm>
            <a:off x="5651640" y="145260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5651640" y="1581120"/>
            <a:ext cx="349236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полнительная экономия для операто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увеличения срок первого деповского ремонта с 3 до 5 лет, экономия на 1 вагон будет составлять стоимость 2 деповских ремонтов (ориентировочн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25 000,0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лей )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утилизации вагона оператор забирает все годные съемные детали, а также сумму за металлолом. Расчетно –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25 тыс.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 увеличенного объема кузова, будет рост производительности вагона (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9,5%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Это уменьшит сроки погрузки/выгрузки вагонов, увеличит оборотоспособность вагона,  сократит расходы на подачу/уборку вагона в средне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 8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5800680" y="4556160"/>
            <a:ext cx="319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при изготовлении вагона таких комплектующих как твердые колеса, кассетные подшипники, другое рессорное подвешивание позволит уменьшить количество текущих отцепочных ремонтов до 60%, что в свою очередь приведет к дополнительной экономии денежных средств на содержание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3D86-3257-4DA2-950B-4A0ECD3A46BB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Tahoma"/>
              </a:rPr>
              <a:t>Стратегические задачи вагоностроител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 на осевые нагрузки 27-30 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ых вагонов с кузовами увеличенной ширины и высоты, использующих преимущества габаритов Тпр и Тц с увеличением погонной нагрузки до 8–10,5 тс/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бота с металлургической промышленностью и ЦНИИ ЧЕРМЕТ им Бардина по созданию нового сортамента высокопрочных сталей и алюминиевых сплавов для вагоностроения с улучшенными характеристи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нижение себестоимости производст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77800" y="486900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179280" y="285264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Arial"/>
              </a:rPr>
              <a:t>Дорожная карта создания инновационных вагон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179280" y="3500280"/>
            <a:ext cx="8785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аучно-технического обеспечения проектирования инновационных вагонов с осевыми нагрузками 27-30 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ой автосцепки, допускающей разность высот вагонов 140 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тележек с осевой нагрузкой 27–30 тс с увеличенным прогибом рессорного подвешивания и уменьшенным динамическим воздействием на пу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новых тормозных систем, обеспечивающих торможение без юза большегрузных вагонов с малой тар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Разработка конструкций вагонов со сниженной тарой за счет применения нового сортамента высокопрочных сталей и алюминиевых сплавов для транспортного машиностро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ассовое производство грузовых вагонов в габаритах Тпр и Тц с осевыми нагрузками 27–30 тс для обновления парка вагонов колеи 152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38F8-64EB-46D0-8210-1CDF0BC52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B80A-96AF-4214-8C14-4743836ED8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12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6705360" cy="490860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13" descr=""/>
          <p:cNvPicPr/>
          <p:nvPr/>
        </p:nvPicPr>
        <p:blipFill>
          <a:blip r:embed="rId2"/>
          <a:stretch/>
        </p:blipFill>
        <p:spPr>
          <a:xfrm>
            <a:off x="5754600" y="2682720"/>
            <a:ext cx="321804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14"/>
          <p:cNvSpPr/>
          <p:nvPr/>
        </p:nvSpPr>
        <p:spPr>
          <a:xfrm>
            <a:off x="5543640" y="2611440"/>
            <a:ext cx="3527280" cy="3665520"/>
          </a:xfrm>
          <a:custGeom>
            <a:avLst/>
            <a:gdLst>
              <a:gd name="textAreaLeft" fmla="*/ 63360 w 3527280"/>
              <a:gd name="textAreaRight" fmla="*/ 3463920 w 3527280"/>
              <a:gd name="textAreaTop" fmla="*/ 63360 h 3665520"/>
              <a:gd name="textAreaBottom" fmla="*/ 3602160 h 3665520"/>
            </a:gdLst>
            <a:ahLst/>
            <a:rect l="textAreaLeft" t="textAreaTop" r="textAreaRight" b="textAreaBottom"/>
            <a:pathLst>
              <a:path w="21600" h="22446">
                <a:moveTo>
                  <a:pt x="1331" y="0"/>
                </a:moveTo>
                <a:arcTo wR="1331" hR="1331" stAng="16200000" swAng="-5400000"/>
                <a:lnTo>
                  <a:pt x="0" y="21115"/>
                </a:lnTo>
                <a:arcTo wR="1331" hR="1331" stAng="10800000" swAng="-5400000"/>
                <a:lnTo>
                  <a:pt x="20269" y="22446"/>
                </a:lnTo>
                <a:arcTo wR="1331" hR="1331" stAng="5400000" swAng="-5400000"/>
                <a:lnTo>
                  <a:pt x="21600" y="1331"/>
                </a:lnTo>
                <a:arcTo wR="1331" hR="1331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74520" y="5445000"/>
            <a:ext cx="491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началу 2014 года общий парк вагонов на сети ОАО «РЖД» насчитывал 1,214 тыс. вагонов.  В январе – сентябре 2014 года прирост парка новых вагонов составил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увагонов - 22,6 тыс. ед., цистерн – 5,6 тыс. ед., крытых вагонов – 2,7 тыс. ед., платформ – 5,0 тыс. 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7705800" y="1159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altaivagon.ru/images/cms/data/catalog_vagonov/13211803/15-1.jpg"/>
          <p:cNvPicPr/>
          <p:nvPr/>
        </p:nvPicPr>
        <p:blipFill>
          <a:blip r:embed="rId1"/>
          <a:stretch/>
        </p:blipFill>
        <p:spPr>
          <a:xfrm>
            <a:off x="108000" y="692280"/>
            <a:ext cx="4762440" cy="2857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468360" y="10857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118-0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труб и длинномерного листового прок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altaivagon.ru/images/cms/data/catalog_vagonov/2134/2134.jpg"/>
          <p:cNvPicPr/>
          <p:nvPr/>
        </p:nvPicPr>
        <p:blipFill>
          <a:blip r:embed="rId2"/>
          <a:stretch/>
        </p:blipFill>
        <p:spPr>
          <a:xfrm>
            <a:off x="5003640" y="1374840"/>
            <a:ext cx="3826080" cy="1255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4870440" y="2629080"/>
            <a:ext cx="4273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модели 13-2134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еревозки стального листового проката в рулонах, требующего защиты от атмосферных осадков по всей сети железных дорог общего пользования колеи 1520 мм России, стран СНГ, Финляндии, Латвии, Литвы и Эст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altaivagon.ru/images/cms/data/catalog_vagonov/13292/13_292.JPG"/>
          <p:cNvPicPr/>
          <p:nvPr/>
        </p:nvPicPr>
        <p:blipFill>
          <a:blip r:embed="rId3"/>
          <a:stretch/>
        </p:blipFill>
        <p:spPr>
          <a:xfrm>
            <a:off x="108000" y="3284640"/>
            <a:ext cx="476244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298440" y="3789360"/>
            <a:ext cx="434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9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рулонной стали всей сети железных дорог России и стран СНГ и Балтии колеи 1520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altaivagon.ru/images/cms/data/catalog_vagonov/132125/13_2125.jpg"/>
          <p:cNvPicPr/>
          <p:nvPr/>
        </p:nvPicPr>
        <p:blipFill>
          <a:blip r:embed="rId5"/>
          <a:stretch/>
        </p:blipFill>
        <p:spPr>
          <a:xfrm>
            <a:off x="4821120" y="4292640"/>
            <a:ext cx="4322880" cy="2565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5037120" y="4108320"/>
            <a:ext cx="38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13-2125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технологических перевозок квадратной заготовки на промышленных предприятиях без права выхода на магистральные пути общего 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132000" y="27813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408800" y="61167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http://www.sdsmash.ru/pic/logo.gif"/>
          <p:cNvPicPr/>
          <p:nvPr/>
        </p:nvPicPr>
        <p:blipFill>
          <a:blip r:embed="rId6"/>
          <a:stretch/>
        </p:blipFill>
        <p:spPr>
          <a:xfrm>
            <a:off x="5897520" y="262080"/>
            <a:ext cx="1009800" cy="77616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49A8-1A90-4B88-BB23-745CD61B5B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41360" y="782640"/>
            <a:ext cx="7553160" cy="573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086440" y="258840"/>
            <a:ext cx="2448000" cy="50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776160" y="2631960"/>
            <a:ext cx="6675480" cy="1992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8"/>
          <p:cNvSpPr/>
          <p:nvPr/>
        </p:nvSpPr>
        <p:spPr>
          <a:xfrm>
            <a:off x="2916360" y="2349360"/>
            <a:ext cx="259236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0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A177-458D-4922-9572-188DB43D3F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ОАО Завод металлоконструкций г. Энгельс"/>
          <p:cNvPicPr/>
          <p:nvPr/>
        </p:nvPicPr>
        <p:blipFill>
          <a:blip r:embed="rId2"/>
          <a:stretch/>
        </p:blipFill>
        <p:spPr>
          <a:xfrm>
            <a:off x="611280" y="2205000"/>
            <a:ext cx="316872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250920" y="105264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ы-платформы в двух исполнениях: модели 13-9906 с колпаком и модели 13-9906-01без колпака предназначены для перевозки листового проката в рулонах диаметром от 860 мм до 2400 мм, массой от 5 т до 30 т по всей сети железных дорог колеи 1520 мм стран СПГ, Грузии, Латвии, Литвы и Эст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1A98-708E-4D63-9AE2-54F9C5CA9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ОАО Завод металлоконструкций г. Энгельс"/>
          <p:cNvPicPr/>
          <p:nvPr/>
        </p:nvPicPr>
        <p:blipFill>
          <a:blip r:embed="rId3"/>
          <a:stretch/>
        </p:blipFill>
        <p:spPr>
          <a:xfrm>
            <a:off x="4500720" y="1989000"/>
            <a:ext cx="4190760" cy="12859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8"/>
          <p:cNvSpPr/>
          <p:nvPr/>
        </p:nvSpPr>
        <p:spPr>
          <a:xfrm>
            <a:off x="5003640" y="1484280"/>
            <a:ext cx="41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ПЕРЕВОЗКИ СТАЛЬНОГО ШТРИПСА, МОДЕЛЬ 23-469-07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ОАО &quot;Завод металлоконструкций&quot;"/>
          <p:cNvPicPr/>
          <p:nvPr/>
        </p:nvPicPr>
        <p:blipFill>
          <a:blip r:embed="rId4"/>
          <a:stretch/>
        </p:blipFill>
        <p:spPr>
          <a:xfrm>
            <a:off x="4572000" y="260280"/>
            <a:ext cx="31813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-252360" y="47628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ОАО Завод металлоконструкций г. Энгельс"/>
          <p:cNvPicPr/>
          <p:nvPr/>
        </p:nvPicPr>
        <p:blipFill>
          <a:blip r:embed="rId5"/>
          <a:stretch/>
        </p:blipFill>
        <p:spPr>
          <a:xfrm>
            <a:off x="5435640" y="4724280"/>
            <a:ext cx="3114720" cy="1717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2"/>
          <p:cNvSpPr/>
          <p:nvPr/>
        </p:nvSpPr>
        <p:spPr>
          <a:xfrm>
            <a:off x="4788000" y="4076640"/>
            <a:ext cx="41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ТРУБ БОЛЬШОГО ДИАМЕТРА, МОДЕЛЬ 13-1163 / 13-1163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www.uvz.ru/i/att/i/r51t14i3335.png"/>
          <p:cNvPicPr/>
          <p:nvPr/>
        </p:nvPicPr>
        <p:blipFill>
          <a:blip r:embed="rId1"/>
          <a:stretch/>
        </p:blipFill>
        <p:spPr>
          <a:xfrm>
            <a:off x="3340080" y="1841400"/>
            <a:ext cx="3225960" cy="1755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719880" y="1125360"/>
            <a:ext cx="20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ранспортировки скр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189000" y="4516560"/>
            <a:ext cx="29559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03320" y="3176640"/>
            <a:ext cx="295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ТЕРМОС 23-5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технологических перевозок горячей непрерывной литой заготовки на промышленных  путях предприят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и термоса сохраняется температура  от 800 до 1000 градусов Цель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uvz.ru/i/att/i/r49t14i3292.png"/>
          <p:cNvPicPr/>
          <p:nvPr/>
        </p:nvPicPr>
        <p:blipFill>
          <a:blip r:embed="rId3"/>
          <a:stretch/>
        </p:blipFill>
        <p:spPr>
          <a:xfrm>
            <a:off x="171360" y="1262160"/>
            <a:ext cx="3260880" cy="1895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199440" y="750960"/>
            <a:ext cx="38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uvz.ru/i/att/i/r50t14i3334.png"/>
          <p:cNvPicPr/>
          <p:nvPr/>
        </p:nvPicPr>
        <p:blipFill>
          <a:blip r:embed="rId4"/>
          <a:stretch/>
        </p:blipFill>
        <p:spPr>
          <a:xfrm>
            <a:off x="3114720" y="4687920"/>
            <a:ext cx="3146400" cy="1646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3139920" y="3840120"/>
            <a:ext cx="294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1" descr=""/>
          <p:cNvPicPr/>
          <p:nvPr/>
        </p:nvPicPr>
        <p:blipFill>
          <a:blip r:embed="rId5"/>
          <a:stretch/>
        </p:blipFill>
        <p:spPr>
          <a:xfrm>
            <a:off x="6151680" y="4645080"/>
            <a:ext cx="284616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2"/>
          <p:cNvSpPr/>
          <p:nvPr/>
        </p:nvSpPr>
        <p:spPr>
          <a:xfrm>
            <a:off x="6269040" y="3933720"/>
            <a:ext cx="28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16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длинномерных профилей из алюминиевых спл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На главную"/>
          <p:cNvPicPr/>
          <p:nvPr/>
        </p:nvPicPr>
        <p:blipFill>
          <a:blip r:embed="rId6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4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7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23-5162.jpg"/>
          <p:cNvPicPr/>
          <p:nvPr/>
        </p:nvPicPr>
        <p:blipFill>
          <a:blip r:embed="rId8"/>
          <a:stretch/>
        </p:blipFill>
        <p:spPr>
          <a:xfrm>
            <a:off x="6443640" y="2122560"/>
            <a:ext cx="2521080" cy="1593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09" name="Прямоугольник 16"/>
          <p:cNvSpPr/>
          <p:nvPr/>
        </p:nvSpPr>
        <p:spPr>
          <a:xfrm>
            <a:off x="6372360" y="1341360"/>
            <a:ext cx="27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ГОН-ПЛАТФОРМА 23-51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ПЕРЕВОЗКИ ГОРЯЧЕЙ СЛЯБОВОЙ ЗАГОТОВ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C4D2-C134-4299-953B-FBFD01B3FB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На главную"/>
          <p:cNvPicPr/>
          <p:nvPr/>
        </p:nvPicPr>
        <p:blipFill>
          <a:blip r:embed="rId1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2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23-5164.jpg"/>
          <p:cNvPicPr/>
          <p:nvPr/>
        </p:nvPicPr>
        <p:blipFill>
          <a:blip r:embed="rId3"/>
          <a:srcRect l="6385" t="12953" r="4255" b="0"/>
          <a:stretch/>
        </p:blipFill>
        <p:spPr>
          <a:xfrm>
            <a:off x="539640" y="1773360"/>
            <a:ext cx="3070440" cy="19652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16" name="Прямоугольник 13"/>
          <p:cNvSpPr/>
          <p:nvPr/>
        </p:nvSpPr>
        <p:spPr>
          <a:xfrm>
            <a:off x="0" y="11253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23-51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ГОРЯЧЕЙ СЛЯБОВОЙ ЗАГОТОВКИ  по заводским подъездным пу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4"/>
          <a:srcRect l="3027" t="0" r="3027" b="0"/>
          <a:stretch/>
        </p:blipFill>
        <p:spPr>
          <a:xfrm>
            <a:off x="5435640" y="1773360"/>
            <a:ext cx="2959200" cy="217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5"/>
          <p:cNvSpPr/>
          <p:nvPr/>
        </p:nvSpPr>
        <p:spPr>
          <a:xfrm>
            <a:off x="4572000" y="13413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Штрипсовоз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возки широкоформатного листа 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179280" y="386064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для перевозки технологического инструмента модель 23-5176 (в наст. время разрабатывается для ВСМПО-АВИС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7" descr=""/>
          <p:cNvPicPr/>
          <p:nvPr/>
        </p:nvPicPr>
        <p:blipFill>
          <a:blip r:embed="rId5"/>
          <a:srcRect l="10272" t="0" r="10272" b="0"/>
          <a:stretch/>
        </p:blipFill>
        <p:spPr>
          <a:xfrm>
            <a:off x="611280" y="4365720"/>
            <a:ext cx="309708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tretch/>
        </p:blipFill>
        <p:spPr>
          <a:xfrm>
            <a:off x="5148360" y="4581360"/>
            <a:ext cx="3620880" cy="20736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9"/>
          <p:cNvSpPr/>
          <p:nvPr/>
        </p:nvSpPr>
        <p:spPr>
          <a:xfrm>
            <a:off x="4932360" y="4076640"/>
            <a:ext cx="39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ппер-окатышевоз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56FB-33CE-478D-BA74-251676ED1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E09C-3D0D-47C3-86BC-616F65FD50C8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" y="218880"/>
            <a:ext cx="7129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тяжеловесного дви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3059280" y="5719680"/>
            <a:ext cx="31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7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83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28080" y="5719680"/>
            <a:ext cx="289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5 т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-75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IMG_1243"/>
          <p:cNvPicPr/>
          <p:nvPr/>
        </p:nvPicPr>
        <p:blipFill>
          <a:blip r:embed="rId1"/>
          <a:stretch/>
        </p:blipFill>
        <p:spPr>
          <a:xfrm>
            <a:off x="3203640" y="177336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6227640" y="1897200"/>
            <a:ext cx="2374920" cy="1942920"/>
          </a:xfrm>
          <a:prstGeom prst="rect">
            <a:avLst/>
          </a:prstGeom>
          <a:solidFill>
            <a:srgbClr val="0ad4c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6151680" y="4149720"/>
            <a:ext cx="299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 с осевой нагрузкой 30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90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инновационный полувагон ОВК_25 тс_модель 12-9853"/>
          <p:cNvPicPr/>
          <p:nvPr/>
        </p:nvPicPr>
        <p:blipFill>
          <a:blip r:embed="rId2"/>
          <a:stretch/>
        </p:blipFill>
        <p:spPr>
          <a:xfrm>
            <a:off x="179280" y="1773360"/>
            <a:ext cx="277200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инновационный хоппер-минераловоз ОВК_25 тс_модель 19-9870"/>
          <p:cNvPicPr/>
          <p:nvPr/>
        </p:nvPicPr>
        <p:blipFill>
          <a:blip r:embed="rId3"/>
          <a:stretch/>
        </p:blipFill>
        <p:spPr>
          <a:xfrm>
            <a:off x="179280" y="3879720"/>
            <a:ext cx="2739960" cy="1636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179280" y="11253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ксплуат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3640" y="1197000"/>
            <a:ext cx="26636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рабатыва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300720" y="1249200"/>
            <a:ext cx="24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 разрабатываются, не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Фото172 (3)"/>
          <p:cNvPicPr/>
          <p:nvPr/>
        </p:nvPicPr>
        <p:blipFill>
          <a:blip r:embed="rId4"/>
          <a:stretch/>
        </p:blipFill>
        <p:spPr>
          <a:xfrm>
            <a:off x="3203640" y="369900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5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5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4143-F843-4A8E-B185-D9043D6185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Диаграмма 4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8040600" cy="3828960"/>
          </a:xfrm>
          <a:prstGeom prst="rect">
            <a:avLst/>
          </a:prstGeom>
          <a:ln w="0">
            <a:noFill/>
          </a:ln>
        </p:spPr>
      </p:pic>
      <p:pic>
        <p:nvPicPr>
          <p:cNvPr id="141" name="Диаграмма 5" descr=""/>
          <p:cNvPicPr/>
          <p:nvPr/>
        </p:nvPicPr>
        <p:blipFill>
          <a:blip r:embed="rId2"/>
          <a:stretch/>
        </p:blipFill>
        <p:spPr>
          <a:xfrm>
            <a:off x="103320" y="3949560"/>
            <a:ext cx="4475160" cy="2914920"/>
          </a:xfrm>
          <a:prstGeom prst="rect">
            <a:avLst/>
          </a:prstGeom>
          <a:ln w="0">
            <a:noFill/>
          </a:ln>
        </p:spPr>
      </p:pic>
      <p:pic>
        <p:nvPicPr>
          <p:cNvPr id="142" name="Диаграмма 7" descr=""/>
          <p:cNvPicPr/>
          <p:nvPr/>
        </p:nvPicPr>
        <p:blipFill>
          <a:blip r:embed="rId3"/>
          <a:stretch/>
        </p:blipFill>
        <p:spPr>
          <a:xfrm>
            <a:off x="4565520" y="3949560"/>
            <a:ext cx="4584960" cy="2914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4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5:22:12Z</dcterms:created>
  <dc:creator>Золотарев Станислав Владимирович</dc:creator>
  <dc:description/>
  <dc:language>en-US</dc:language>
  <cp:lastModifiedBy>Варенов</cp:lastModifiedBy>
  <dcterms:modified xsi:type="dcterms:W3CDTF">2014-11-12T07:32:50Z</dcterms:modified>
  <cp:revision>69</cp:revision>
  <dc:subject/>
  <dc:title>Презентация PowerPoint</dc:title>
</cp:coreProperties>
</file>