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7.jpeg" ContentType="image/jpeg"/>
  <Override PartName="/ppt/media/image34.jpeg" ContentType="image/jpeg"/>
  <Override PartName="/ppt/media/image20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0.png" ContentType="image/png"/>
  <Override PartName="/ppt/media/image13.jpeg" ContentType="image/jpeg"/>
  <Override PartName="/ppt/media/image30.jpeg" ContentType="image/jpeg"/>
  <Override PartName="/ppt/media/image11.png" ContentType="image/png"/>
  <Override PartName="/ppt/media/image12.jpeg" ContentType="image/jpeg"/>
  <Override PartName="/ppt/media/image37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8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B875-40A6-4F0F-B959-DB2E8EC8E3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98B7-0F5E-43FB-B0DC-FD82B6FFE2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E74A-72EC-48C2-961C-E550AE821F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F795-4287-48E9-9A53-EF70D20382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D6F4-F961-411A-82A2-AED338A97F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13CE-0B58-4855-B907-0136423587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54CBAF23-D76C-4666-97EB-89F78A8973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C832-A619-442E-A91D-A2C9FD91A8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FE29-DACA-4952-A892-A0BA89AE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97B0-9663-488A-A037-29703DD5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9A67-B8A5-49FE-89A9-2349BE381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AD27-39CE-4501-AA85-8A68C3AA9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4E28-C111-4F47-A6EB-983A5378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7ABC-DBB8-4B67-B512-7F999391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1F55-A5D8-4220-9153-45F9C476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3E35-33CC-4CC6-9F82-E2AAF19A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DF4F-871A-44B5-B41C-1B603899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D2F2-71CC-4331-9732-428FEFEE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2CE2-5CDE-4B52-B330-C38BB899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BC04-C41C-4969-B46E-80F38BB3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3D48-CCB2-45BD-A29F-BB0AE3B1323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C789-6097-4C7E-94F1-BDD0570155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1.pn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1.pn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1.pn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3040" y="1554120"/>
            <a:ext cx="7626240" cy="16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изводства вагонов с улучшенными характеристиками для горнорудной отрасли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835280" y="259920"/>
            <a:ext cx="64008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коммерческое партнерство производителей и пользователей железнодорожного подвижного соста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ЪЕДИНЕНИЕ ВАГОНОСТРОИТЕЛ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10"/>
          <p:cNvSpPr/>
          <p:nvPr/>
        </p:nvSpPr>
        <p:spPr>
          <a:xfrm>
            <a:off x="3939480" y="5546880"/>
            <a:ext cx="19332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. Моск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2 ноября 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844560" y="3716280"/>
            <a:ext cx="77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ренов Василий Андреевич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нительный директор 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П "Объединение вагоностроителей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A8EA-ADFF-46CC-8CB2-7445AC4A8B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Заголовок 1"/>
          <p:cNvSpPr/>
          <p:nvPr/>
        </p:nvSpPr>
        <p:spPr>
          <a:xfrm>
            <a:off x="1598760" y="331920"/>
            <a:ext cx="72007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ост рынка и доли производства инновационных полуваго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33440" y="2565360"/>
          <a:ext cx="8386560" cy="3992760"/>
        </p:xfrm>
        <a:graphic>
          <a:graphicData uri="http://schemas.openxmlformats.org/drawingml/2006/table">
            <a:tbl>
              <a:tblPr/>
              <a:tblGrid>
                <a:gridCol w="1295280"/>
                <a:gridCol w="1297080"/>
                <a:gridCol w="1295280"/>
                <a:gridCol w="1584360"/>
                <a:gridCol w="1403280"/>
                <a:gridCol w="1511280"/>
              </a:tblGrid>
              <a:tr h="792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варт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рий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новацио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ля выпуска инновационных вагонов в общем выпуск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0 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0 1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3 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3 0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1 3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0 8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V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3 6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2 7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8 2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6 7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5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9 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7 9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 2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8 9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8 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7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9 0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7 7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 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V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0 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7 7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 2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7 2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1 5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 6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8 5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6 5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 9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9 2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5 7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3 4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3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8 9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5 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3 5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V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56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56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 6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 6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 9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6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1355760" cy="125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395280" y="1255680"/>
          <a:ext cx="8569440" cy="1146240"/>
        </p:xfrm>
        <a:graphic>
          <a:graphicData uri="http://schemas.openxmlformats.org/drawingml/2006/table">
            <a:tbl>
              <a:tblPr/>
              <a:tblGrid>
                <a:gridCol w="1928880"/>
                <a:gridCol w="855720"/>
                <a:gridCol w="855720"/>
                <a:gridCol w="1501560"/>
                <a:gridCol w="855720"/>
                <a:gridCol w="1065240"/>
                <a:gridCol w="1506600"/>
              </a:tblGrid>
              <a:tr h="167760"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оизводство полувагон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н.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н.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1144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н. 2014/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4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 мес 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 мес 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1144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 мес. 2014/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4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144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н. 2013 (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4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>
                      <a:noFill/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144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 мес. 2013 (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4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>
                      <a:noFill/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НГ (общее пр-во полувагонов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 9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 0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 6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7 2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2,2% 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(прогноз по году -8,1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НГ с нагрузкой на ось 25т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2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3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 9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 3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2,7 р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3E97-95D5-40FB-81A8-697A73C333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Заголовок 1"/>
          <p:cNvSpPr/>
          <p:nvPr/>
        </p:nvSpPr>
        <p:spPr>
          <a:xfrm>
            <a:off x="3203640" y="246240"/>
            <a:ext cx="5195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новационные полувагоны (25 т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сновные мод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9" descr="12-2141"/>
          <p:cNvPicPr/>
          <p:nvPr/>
        </p:nvPicPr>
        <p:blipFill>
          <a:blip r:embed="rId1"/>
          <a:stretch/>
        </p:blipFill>
        <p:spPr>
          <a:xfrm>
            <a:off x="4629240" y="1065240"/>
            <a:ext cx="2265120" cy="1092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4619520" y="2235240"/>
          <a:ext cx="2113200" cy="4456080"/>
        </p:xfrm>
        <a:graphic>
          <a:graphicData uri="http://schemas.openxmlformats.org/drawingml/2006/table">
            <a:tbl>
              <a:tblPr/>
              <a:tblGrid>
                <a:gridCol w="1351080"/>
                <a:gridCol w="762120"/>
              </a:tblGrid>
              <a:tr h="210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с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21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изводи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тайваг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зоподъёмность, т, не боле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тары, 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кузова, м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 от уровня головки рельса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8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 наружная по стойкам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расчетная статическая нагрузка от колесной пары на рельсы, кН (тс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 (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трукционная скорость, км/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разгрузочных люков, ш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ь тележ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194-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324000" y="1004760"/>
            <a:ext cx="1976400" cy="121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" name=""/>
          <p:cNvGraphicFramePr/>
          <p:nvPr/>
        </p:nvGraphicFramePr>
        <p:xfrm>
          <a:off x="173160" y="2244600"/>
          <a:ext cx="2251080" cy="4137120"/>
        </p:xfrm>
        <a:graphic>
          <a:graphicData uri="http://schemas.openxmlformats.org/drawingml/2006/table">
            <a:tbl>
              <a:tblPr/>
              <a:tblGrid>
                <a:gridCol w="1662120"/>
                <a:gridCol w="588960"/>
              </a:tblGrid>
              <a:tr h="362160">
                <a:tc>
                  <a:txBody>
                    <a:bodyPr lIns="6688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88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96-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изводи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В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зоподъёмность, т, не боле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тары, 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кузова, м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 от уровня головки рельса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7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 наружная по стойкам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1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расчетная статическая нагрузка от колесной пары на рельсы, кН (тс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 (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трукционная скорость, км/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разгрузочных люков, ш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ь тележ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194-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4" name="Picture 6" descr=""/>
          <p:cNvPicPr/>
          <p:nvPr/>
        </p:nvPicPr>
        <p:blipFill>
          <a:blip r:embed="rId3"/>
          <a:stretch/>
        </p:blipFill>
        <p:spPr>
          <a:xfrm>
            <a:off x="2411280" y="1219320"/>
            <a:ext cx="2217960" cy="100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"/>
          <p:cNvGraphicFramePr/>
          <p:nvPr/>
        </p:nvGraphicFramePr>
        <p:xfrm>
          <a:off x="2556000" y="2243160"/>
          <a:ext cx="1984320" cy="4416480"/>
        </p:xfrm>
        <a:graphic>
          <a:graphicData uri="http://schemas.openxmlformats.org/drawingml/2006/table">
            <a:tbl>
              <a:tblPr/>
              <a:tblGrid>
                <a:gridCol w="1395360"/>
                <a:gridCol w="588960"/>
              </a:tblGrid>
              <a:tr h="19044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98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изводи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ВС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зоподъёмность, т, не боле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тары, 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кузова, м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 от уровня головки рельса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 3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 наружная по стойкам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 9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расчетная статическая нагрузка от колесной пары на рельсы, кН (тс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 (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трукционная скорость, км/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разгрузочных люков, ш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ь тележ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BER S-2-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6" name="Рисунок 4" descr=""/>
          <p:cNvPicPr/>
          <p:nvPr/>
        </p:nvPicPr>
        <p:blipFill>
          <a:blip r:embed="rId4"/>
          <a:stretch/>
        </p:blipFill>
        <p:spPr>
          <a:xfrm>
            <a:off x="0" y="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157" name="Номер слайда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64E2-193C-40C6-839C-28C98B2958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22" descr="E:\DOC\`Сувенирка`\2010\Каталог 2010\Новый материал\Вагоны\Вагон 1304\DSCF1028.JPG"/>
          <p:cNvPicPr/>
          <p:nvPr/>
        </p:nvPicPr>
        <p:blipFill>
          <a:blip r:embed="rId5"/>
          <a:stretch/>
        </p:blipFill>
        <p:spPr>
          <a:xfrm>
            <a:off x="6819840" y="720720"/>
            <a:ext cx="2259000" cy="1695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6904080" y="2222640"/>
          <a:ext cx="2087640" cy="4246560"/>
        </p:xfrm>
        <a:graphic>
          <a:graphicData uri="http://schemas.openxmlformats.org/drawingml/2006/table">
            <a:tbl>
              <a:tblPr/>
              <a:tblGrid>
                <a:gridCol w="1336680"/>
                <a:gridCol w="750960"/>
              </a:tblGrid>
              <a:tr h="210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с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304-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изводи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мтрактор-Ваг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зоподъёмность, т, не боле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тары, 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кузова, м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 от уровня головки рельса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8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 наружная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1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расчетная статическая нагрузка от колесной пары на рельсы, кН (тс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 (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трукционная скорость, км/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разгрузочных люков, ш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ь тележ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99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"/>
          <p:cNvSpPr/>
          <p:nvPr/>
        </p:nvSpPr>
        <p:spPr>
          <a:xfrm>
            <a:off x="701028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8EF7-BCF8-406F-8B0F-5DC2821BC3B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Заголовок 1"/>
          <p:cNvSpPr/>
          <p:nvPr/>
        </p:nvSpPr>
        <p:spPr>
          <a:xfrm>
            <a:off x="547560" y="189000"/>
            <a:ext cx="71280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становление №4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убсидии Минпромторг при покупке  инновационных полувагон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3"/>
          <p:cNvSpPr/>
          <p:nvPr/>
        </p:nvSpPr>
        <p:spPr>
          <a:xfrm>
            <a:off x="1971720" y="1523880"/>
            <a:ext cx="0" cy="529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5"/>
          <p:cNvSpPr/>
          <p:nvPr/>
        </p:nvSpPr>
        <p:spPr>
          <a:xfrm>
            <a:off x="3635280" y="2198520"/>
            <a:ext cx="0" cy="4392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3"/>
          <p:cNvSpPr/>
          <p:nvPr/>
        </p:nvSpPr>
        <p:spPr>
          <a:xfrm>
            <a:off x="189000" y="1152360"/>
            <a:ext cx="1452600" cy="307080"/>
          </a:xfrm>
          <a:prstGeom prst="rect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ст. врем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8"/>
          <p:cNvSpPr/>
          <p:nvPr/>
        </p:nvSpPr>
        <p:spPr>
          <a:xfrm>
            <a:off x="2141640" y="1170000"/>
            <a:ext cx="1044360" cy="307080"/>
          </a:xfrm>
          <a:prstGeom prst="rect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01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9"/>
          <p:cNvSpPr/>
          <p:nvPr/>
        </p:nvSpPr>
        <p:spPr>
          <a:xfrm>
            <a:off x="4111560" y="1185840"/>
            <a:ext cx="1044720" cy="307080"/>
          </a:xfrm>
          <a:prstGeom prst="rect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015-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14"/>
          <p:cNvSpPr/>
          <p:nvPr/>
        </p:nvSpPr>
        <p:spPr>
          <a:xfrm>
            <a:off x="41400" y="2154240"/>
            <a:ext cx="195552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риант 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 порезке (утилизации) старого вагона и приобретении инновационного вагона МИНРОМТОРГ предоставляет лизинговой компании  единовременную скидку в размер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30 0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ублей/ на 1 ваго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риант 2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иобретении инновационных вагонов Минпромторг РФ предоставляет лизинговой компании компенсацию её потер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размере 90%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 ставки рефинансирования на лизинговый платеж, но не боле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30 000,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ублей / на 1 вагон, в первый год после приобретения ваг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22"/>
          <p:cNvSpPr/>
          <p:nvPr/>
        </p:nvSpPr>
        <p:spPr>
          <a:xfrm>
            <a:off x="160200" y="1581120"/>
            <a:ext cx="2238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лучатель субсидии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– лизинговая комп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23"/>
          <p:cNvSpPr/>
          <p:nvPr/>
        </p:nvSpPr>
        <p:spPr>
          <a:xfrm>
            <a:off x="1992240" y="1536840"/>
            <a:ext cx="3551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лучатель субсидии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– лизинговая компания или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                                  --  прямой покупател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16"/>
          <p:cNvSpPr/>
          <p:nvPr/>
        </p:nvSpPr>
        <p:spPr>
          <a:xfrm>
            <a:off x="1996920" y="2166840"/>
            <a:ext cx="1567080" cy="34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ариант 3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При порезке (утилизации) старого вагона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приобретении инновационного вагона МИНРОМТОРГ предоставляет прямому покупателю или лизинговой компании (при наличии пакета документов и договора с МИНПРОМТОРГ) компенсацию в размере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260 000,00 рублей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/ на 1 вагон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Если нет старого вагона, то только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130 000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рублей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25"/>
          <p:cNvSpPr/>
          <p:nvPr/>
        </p:nvSpPr>
        <p:spPr>
          <a:xfrm>
            <a:off x="3657600" y="2151000"/>
            <a:ext cx="211284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ариант 1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При порезке (утилизации) старого вагона и приобретении инновационного вагона МИНРОМТОРГ предоставляет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ямому покупателю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или лизинговой компании  единовременную скидку в размере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130 000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рублей/ на 1 вагон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ариант 2.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и приобретении инновационных вагонов Минпромторг РФ предоставляет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ямому покупателю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лизинговой компании компенсацию её потерь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 размере 90%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т ставки рефинансирования на лизинговый платеж, но не более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130 000,00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рублей / на 1 вагон, в первый год после приобретения вагоно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0"/>
          <p:cNvSpPr/>
          <p:nvPr/>
        </p:nvSpPr>
        <p:spPr>
          <a:xfrm>
            <a:off x="2022480" y="6186600"/>
            <a:ext cx="1746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Calibri"/>
              </a:rPr>
              <a:t>Добавление действуют только в 2014 год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ая соединительная линия 30"/>
          <p:cNvSpPr/>
          <p:nvPr/>
        </p:nvSpPr>
        <p:spPr>
          <a:xfrm>
            <a:off x="5651640" y="1452600"/>
            <a:ext cx="0" cy="529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6"/>
          <p:cNvSpPr/>
          <p:nvPr/>
        </p:nvSpPr>
        <p:spPr>
          <a:xfrm>
            <a:off x="5651640" y="1581120"/>
            <a:ext cx="349236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ополнительная экономия для оператор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з-за увеличения срок первого деповского ремонта с 3 до 5 лет, экономия на 1 вагон будет составлять стоимость 2 деповских ремонтов (ориентировочно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225 000,00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ублей ) на 1 вагон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и утилизации вагона оператор забирает все годные съемные детали, а также сумму за металлолом. Расчетно –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125 тыс.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уб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з-за  увеличенного объема кузова, будет рост производительности вагона (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9,5%)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 Это уменьшит сроки погрузки/выгрузки вагонов, увеличит оборотоспособность вагона,  сократит расходы на подачу/уборку вагона в среднем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на 8%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7"/>
          <p:cNvSpPr/>
          <p:nvPr/>
        </p:nvSpPr>
        <p:spPr>
          <a:xfrm>
            <a:off x="5800680" y="4556160"/>
            <a:ext cx="3193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спользование при изготовлении вагона таких комплектующих как твердые колеса, кассетные подшипники, другое рессорное подвешивание позволит уменьшить количество текущих отцепочных ремонтов до 60%, что в свою очередь приведет к дополнительной экономии денежных средств на содержание ваго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4" descr=""/>
          <p:cNvPicPr/>
          <p:nvPr/>
        </p:nvPicPr>
        <p:blipFill>
          <a:blip r:embed="rId1"/>
          <a:stretch/>
        </p:blipFill>
        <p:spPr>
          <a:xfrm>
            <a:off x="7788240" y="68400"/>
            <a:ext cx="13557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235B-C049-4C30-A22F-951E1F3AA21F}" type="slidenum">
              <a:rPr b="0" lang="ru-RU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28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ahoma"/>
                <a:ea typeface="Tahoma"/>
              </a:rPr>
              <a:t>Стратегические задачи вагоностроителей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5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ереход на осевые нагрузки 27-30 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65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азработка новых вагонов с кузовами увеличенной ширины и высоты, использующих преимущества габаритов Тпр и Тц с увеличением погонной нагрузки до 8–10,5 тс/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65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абота с металлургической промышленностью и ЦНИИ ЧЕРМЕТ им Бардина по созданию нового сортамента высокопрочных сталей и алюминиевых сплавов для вагоностроения с улучшенными характеристика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65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нижение себестоимости производств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577800" y="486900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Заголовок 1"/>
          <p:cNvSpPr/>
          <p:nvPr/>
        </p:nvSpPr>
        <p:spPr>
          <a:xfrm>
            <a:off x="179280" y="2852640"/>
            <a:ext cx="828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ahoma"/>
                <a:ea typeface="Arial"/>
              </a:rPr>
              <a:t>Дорожная карта создания инновационных вагоно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одержимое 2"/>
          <p:cNvSpPr/>
          <p:nvPr/>
        </p:nvSpPr>
        <p:spPr>
          <a:xfrm>
            <a:off x="179280" y="3500280"/>
            <a:ext cx="878544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азработка научно-технического обеспечения проектирования инновационных вагонов с осевыми нагрузками 27-30 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азработка новой автосцепки, допускающей разность высот вагонов 140 м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оздание тележек с осевой нагрузкой 27–30 тс с увеличенным прогибом рессорного подвешивания и уменьшенным динамическим воздействием на пу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оздание новых тормозных систем, обеспечивающих торможение без юза большегрузных вагонов с малой тар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Arial"/>
              </a:rPr>
              <a:t>Разработка конструкций вагонов со сниженной тарой за счет применения нового сортамента высокопрочных сталей и алюминиевых сплавов для транспортного машинострое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Массовое производство грузовых вагонов в габаритах Тпр и Тц с осевыми нагрузками 27–30 тс для обновления парка вагонов колеи 1520 м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Рисунок 4" descr=""/>
          <p:cNvPicPr/>
          <p:nvPr/>
        </p:nvPicPr>
        <p:blipFill>
          <a:blip r:embed="rId1"/>
          <a:stretch/>
        </p:blipFill>
        <p:spPr>
          <a:xfrm>
            <a:off x="7788240" y="68400"/>
            <a:ext cx="13557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762F-0838-496A-882B-A231674550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701028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2F99-665B-4993-8BB9-672131FE1EF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Диаграмма 12" descr=""/>
          <p:cNvPicPr/>
          <p:nvPr/>
        </p:nvPicPr>
        <p:blipFill>
          <a:blip r:embed="rId1"/>
          <a:stretch/>
        </p:blipFill>
        <p:spPr>
          <a:xfrm>
            <a:off x="103320" y="444600"/>
            <a:ext cx="6705360" cy="4908600"/>
          </a:xfrm>
          <a:prstGeom prst="rect">
            <a:avLst/>
          </a:prstGeom>
          <a:ln w="0">
            <a:noFill/>
          </a:ln>
        </p:spPr>
      </p:pic>
      <p:pic>
        <p:nvPicPr>
          <p:cNvPr id="56" name="Диаграмма 13" descr=""/>
          <p:cNvPicPr/>
          <p:nvPr/>
        </p:nvPicPr>
        <p:blipFill>
          <a:blip r:embed="rId2"/>
          <a:stretch/>
        </p:blipFill>
        <p:spPr>
          <a:xfrm>
            <a:off x="5754600" y="2682720"/>
            <a:ext cx="3218040" cy="3657600"/>
          </a:xfrm>
          <a:prstGeom prst="rect">
            <a:avLst/>
          </a:prstGeom>
          <a:ln w="0">
            <a:noFill/>
          </a:ln>
        </p:spPr>
      </p:pic>
      <p:sp>
        <p:nvSpPr>
          <p:cNvPr id="57" name="Скругленный прямоугольник 14"/>
          <p:cNvSpPr/>
          <p:nvPr/>
        </p:nvSpPr>
        <p:spPr>
          <a:xfrm>
            <a:off x="5543640" y="2611440"/>
            <a:ext cx="3527280" cy="3665520"/>
          </a:xfrm>
          <a:custGeom>
            <a:avLst/>
            <a:gdLst>
              <a:gd name="textAreaLeft" fmla="*/ 63360 w 3527280"/>
              <a:gd name="textAreaRight" fmla="*/ 3463920 w 3527280"/>
              <a:gd name="textAreaTop" fmla="*/ 63360 h 3665520"/>
              <a:gd name="textAreaBottom" fmla="*/ 3602160 h 3665520"/>
            </a:gdLst>
            <a:ahLst/>
            <a:rect l="textAreaLeft" t="textAreaTop" r="textAreaRight" b="textAreaBottom"/>
            <a:pathLst>
              <a:path w="21600" h="22446">
                <a:moveTo>
                  <a:pt x="1331" y="0"/>
                </a:moveTo>
                <a:arcTo wR="1331" hR="1331" stAng="16200000" swAng="-5400000"/>
                <a:lnTo>
                  <a:pt x="0" y="21115"/>
                </a:lnTo>
                <a:arcTo wR="1331" hR="1331" stAng="10800000" swAng="-5400000"/>
                <a:lnTo>
                  <a:pt x="20269" y="22446"/>
                </a:lnTo>
                <a:arcTo wR="1331" hR="1331" stAng="5400000" swAng="-5400000"/>
                <a:lnTo>
                  <a:pt x="21600" y="1331"/>
                </a:lnTo>
                <a:arcTo wR="1331" hR="1331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74520" y="5445000"/>
            <a:ext cx="4911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 началу 2014 года общий парк вагонов на сети ОАО «РЖД» насчитывал 1,214 тыс. вагонов.  В январе – сентябре 2014 года прирост парка новых вагонов составил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лувагонов - 22,6 тыс. ед., цистерн – 5,6 тыс. ед., крытых вагонов – 2,7 тыс. ед., платформ – 5,0 тыс. е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4" descr=""/>
          <p:cNvPicPr/>
          <p:nvPr/>
        </p:nvPicPr>
        <p:blipFill>
          <a:blip r:embed="rId3"/>
          <a:stretch/>
        </p:blipFill>
        <p:spPr>
          <a:xfrm>
            <a:off x="7705800" y="11592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60" name="Прямая соединительная линия 8"/>
          <p:cNvSpPr/>
          <p:nvPr/>
        </p:nvSpPr>
        <p:spPr>
          <a:xfrm>
            <a:off x="743040" y="804960"/>
            <a:ext cx="5700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altaivagon.ru/images/cms/data/catalog_vagonov/13211803/15-1.jpg"/>
          <p:cNvPicPr/>
          <p:nvPr/>
        </p:nvPicPr>
        <p:blipFill>
          <a:blip r:embed="rId1"/>
          <a:stretch/>
        </p:blipFill>
        <p:spPr>
          <a:xfrm>
            <a:off x="108000" y="692280"/>
            <a:ext cx="4762440" cy="285732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468360" y="1085760"/>
            <a:ext cx="345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атформа модели 13-2118-0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предназначена для перевозки труб и длинномерного листового прок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http://altaivagon.ru/images/cms/data/catalog_vagonov/2134/2134.jpg"/>
          <p:cNvPicPr/>
          <p:nvPr/>
        </p:nvPicPr>
        <p:blipFill>
          <a:blip r:embed="rId2"/>
          <a:stretch/>
        </p:blipFill>
        <p:spPr>
          <a:xfrm>
            <a:off x="5003640" y="1374840"/>
            <a:ext cx="3826080" cy="12556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4"/>
          <p:cNvSpPr/>
          <p:nvPr/>
        </p:nvSpPr>
        <p:spPr>
          <a:xfrm>
            <a:off x="4870440" y="2629080"/>
            <a:ext cx="42735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ециализированная платформа модели 13-2134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назначен для перевозки стального листового проката в рулонах, требующего защиты от атмосферных осадков по всей сети железных дорог общего пользования колеи 1520 мм России, стран СНГ, Финляндии, Латвии, Литвы и Эсто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http://altaivagon.ru/images/cms/data/catalog_vagonov/13292/13_292.JPG"/>
          <p:cNvPicPr/>
          <p:nvPr/>
        </p:nvPicPr>
        <p:blipFill>
          <a:blip r:embed="rId3"/>
          <a:stretch/>
        </p:blipFill>
        <p:spPr>
          <a:xfrm>
            <a:off x="108000" y="3284640"/>
            <a:ext cx="4762440" cy="28573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"/>
          <p:cNvPicPr/>
          <p:nvPr/>
        </p:nvPicPr>
        <p:blipFill>
          <a:blip r:embed="rId4"/>
          <a:stretch/>
        </p:blipFill>
        <p:spPr>
          <a:xfrm>
            <a:off x="7788240" y="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5"/>
          <p:cNvSpPr/>
          <p:nvPr/>
        </p:nvSpPr>
        <p:spPr>
          <a:xfrm>
            <a:off x="298440" y="3789360"/>
            <a:ext cx="4344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атформа модели 13-29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предназначена для перевозки рулонной стали всей сети железных дорог России и стран СНГ и Балтии колеи 1520 м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http://altaivagon.ru/images/cms/data/catalog_vagonov/132125/13_2125.jpg"/>
          <p:cNvPicPr/>
          <p:nvPr/>
        </p:nvPicPr>
        <p:blipFill>
          <a:blip r:embed="rId5"/>
          <a:stretch/>
        </p:blipFill>
        <p:spPr>
          <a:xfrm>
            <a:off x="4821120" y="4292640"/>
            <a:ext cx="4322880" cy="256536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6"/>
          <p:cNvSpPr/>
          <p:nvPr/>
        </p:nvSpPr>
        <p:spPr>
          <a:xfrm>
            <a:off x="5037120" y="4108320"/>
            <a:ext cx="3811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модели 13-2125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назначена для технологических перевозок квадратной заготовки на промышленных предприятиях без права выхода на магистральные пути общего поль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3132000" y="278136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АО «Алтайвагон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6"/>
          <p:cNvSpPr/>
          <p:nvPr/>
        </p:nvSpPr>
        <p:spPr>
          <a:xfrm>
            <a:off x="7408800" y="611676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АО «Алтайвагон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2" descr="http://www.sdsmash.ru/pic/logo.gif"/>
          <p:cNvPicPr/>
          <p:nvPr/>
        </p:nvPicPr>
        <p:blipFill>
          <a:blip r:embed="rId6"/>
          <a:stretch/>
        </p:blipFill>
        <p:spPr>
          <a:xfrm>
            <a:off x="5897520" y="262080"/>
            <a:ext cx="1009800" cy="776160"/>
          </a:xfrm>
          <a:prstGeom prst="rect">
            <a:avLst/>
          </a:prstGeom>
          <a:ln w="0">
            <a:noFill/>
          </a:ln>
        </p:spPr>
      </p:pic>
      <p:sp>
        <p:nvSpPr>
          <p:cNvPr id="73" name="Заголовок 1"/>
          <p:cNvSpPr/>
          <p:nvPr/>
        </p:nvSpPr>
        <p:spPr>
          <a:xfrm>
            <a:off x="108000" y="239760"/>
            <a:ext cx="52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  <a:ea typeface="Tahoma"/>
              </a:rPr>
              <a:t>Вагоны для металлург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18"/>
          <p:cNvSpPr/>
          <p:nvPr/>
        </p:nvSpPr>
        <p:spPr>
          <a:xfrm>
            <a:off x="468360" y="690480"/>
            <a:ext cx="4476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18CA-EA84-4639-8EB9-53B959C24D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41360" y="782640"/>
            <a:ext cx="7553160" cy="5735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5086440" y="258840"/>
            <a:ext cx="2448000" cy="506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3"/>
          <a:stretch/>
        </p:blipFill>
        <p:spPr>
          <a:xfrm>
            <a:off x="776160" y="2631960"/>
            <a:ext cx="6675480" cy="19926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8"/>
          <p:cNvSpPr/>
          <p:nvPr/>
        </p:nvSpPr>
        <p:spPr>
          <a:xfrm>
            <a:off x="2916360" y="2349360"/>
            <a:ext cx="2592360" cy="35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Заголовок 1"/>
          <p:cNvSpPr/>
          <p:nvPr/>
        </p:nvSpPr>
        <p:spPr>
          <a:xfrm>
            <a:off x="108000" y="239760"/>
            <a:ext cx="52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  <a:ea typeface="Tahoma"/>
              </a:rPr>
              <a:t>Вагоны для металлург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10"/>
          <p:cNvSpPr/>
          <p:nvPr/>
        </p:nvSpPr>
        <p:spPr>
          <a:xfrm>
            <a:off x="468360" y="690480"/>
            <a:ext cx="4476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4" descr=""/>
          <p:cNvPicPr/>
          <p:nvPr/>
        </p:nvPicPr>
        <p:blipFill>
          <a:blip r:embed="rId4"/>
          <a:stretch/>
        </p:blipFill>
        <p:spPr>
          <a:xfrm>
            <a:off x="7788240" y="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83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48F1-F09B-4B81-9709-F74262ED33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4" descr=""/>
          <p:cNvPicPr/>
          <p:nvPr/>
        </p:nvPicPr>
        <p:blipFill>
          <a:blip r:embed="rId1"/>
          <a:stretch/>
        </p:blipFill>
        <p:spPr>
          <a:xfrm>
            <a:off x="7788240" y="0"/>
            <a:ext cx="1355760" cy="1255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ОАО Завод металлоконструкций г. Энгельс"/>
          <p:cNvPicPr/>
          <p:nvPr/>
        </p:nvPicPr>
        <p:blipFill>
          <a:blip r:embed="rId2"/>
          <a:stretch/>
        </p:blipFill>
        <p:spPr>
          <a:xfrm>
            <a:off x="611280" y="2205000"/>
            <a:ext cx="3168720" cy="186228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5"/>
          <p:cNvSpPr/>
          <p:nvPr/>
        </p:nvSpPr>
        <p:spPr>
          <a:xfrm>
            <a:off x="250920" y="105264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ы-платформы в двух исполнениях: модели 13-9906 с колпаком и модели 13-9906-01без колпака предназначены для перевозки листового проката в рулонах диаметром от 860 мм до 2400 мм, массой от 5 т до 30 т по всей сети железных дорог колеи 1520 мм стран СПГ, Грузии, Латвии, Литвы и Эсто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6E21-4212-4DE9-8590-E1FB2D780A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ОАО Завод металлоконструкций г. Энгельс"/>
          <p:cNvPicPr/>
          <p:nvPr/>
        </p:nvPicPr>
        <p:blipFill>
          <a:blip r:embed="rId3"/>
          <a:stretch/>
        </p:blipFill>
        <p:spPr>
          <a:xfrm>
            <a:off x="4500720" y="1989000"/>
            <a:ext cx="4190760" cy="128592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8"/>
          <p:cNvSpPr/>
          <p:nvPr/>
        </p:nvSpPr>
        <p:spPr>
          <a:xfrm>
            <a:off x="5003640" y="1484280"/>
            <a:ext cx="414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ДЛЯ ПЕРЕВОЗКИ СТАЛЬНОГО ШТРИПСА, МОДЕЛЬ 23-469-07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ОАО &quot;Завод металлоконструкций&quot;"/>
          <p:cNvPicPr/>
          <p:nvPr/>
        </p:nvPicPr>
        <p:blipFill>
          <a:blip r:embed="rId4"/>
          <a:stretch/>
        </p:blipFill>
        <p:spPr>
          <a:xfrm>
            <a:off x="4572000" y="260280"/>
            <a:ext cx="3181320" cy="743040"/>
          </a:xfrm>
          <a:prstGeom prst="rect">
            <a:avLst/>
          </a:prstGeom>
          <a:ln w="0">
            <a:noFill/>
          </a:ln>
        </p:spPr>
      </p:pic>
      <p:sp>
        <p:nvSpPr>
          <p:cNvPr id="91" name="Заголовок 1"/>
          <p:cNvSpPr/>
          <p:nvPr/>
        </p:nvSpPr>
        <p:spPr>
          <a:xfrm>
            <a:off x="-252360" y="476280"/>
            <a:ext cx="52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Вагоны для металлург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ОАО Завод металлоконструкций г. Энгельс"/>
          <p:cNvPicPr/>
          <p:nvPr/>
        </p:nvPicPr>
        <p:blipFill>
          <a:blip r:embed="rId5"/>
          <a:stretch/>
        </p:blipFill>
        <p:spPr>
          <a:xfrm>
            <a:off x="5435640" y="4724280"/>
            <a:ext cx="3114720" cy="171792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12"/>
          <p:cNvSpPr/>
          <p:nvPr/>
        </p:nvSpPr>
        <p:spPr>
          <a:xfrm>
            <a:off x="4788000" y="4076640"/>
            <a:ext cx="41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ДЛЯ ТРУБ БОЛЬШОГО ДИАМЕТРА, МОДЕЛЬ 13-1163 / 13-1163-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http://www.uvz.ru/i/att/i/r51t14i3335.png"/>
          <p:cNvPicPr/>
          <p:nvPr/>
        </p:nvPicPr>
        <p:blipFill>
          <a:blip r:embed="rId1"/>
          <a:stretch/>
        </p:blipFill>
        <p:spPr>
          <a:xfrm>
            <a:off x="3340080" y="1841400"/>
            <a:ext cx="3225960" cy="175572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3719880" y="1125360"/>
            <a:ext cx="206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23-5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ранспортировки скра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3" descr=""/>
          <p:cNvPicPr/>
          <p:nvPr/>
        </p:nvPicPr>
        <p:blipFill>
          <a:blip r:embed="rId2"/>
          <a:stretch/>
        </p:blipFill>
        <p:spPr>
          <a:xfrm>
            <a:off x="189000" y="4516560"/>
            <a:ext cx="2955960" cy="1871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103320" y="3176640"/>
            <a:ext cx="295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ТЕРМОС 23-51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назначен для технологических перевозок горячей непрерывной литой заготовки на промышленных  путях предприятий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нутри термоса сохраняется температура  от 800 до 1000 градусов Цель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http://www.uvz.ru/i/att/i/r49t14i3292.png"/>
          <p:cNvPicPr/>
          <p:nvPr/>
        </p:nvPicPr>
        <p:blipFill>
          <a:blip r:embed="rId3"/>
          <a:stretch/>
        </p:blipFill>
        <p:spPr>
          <a:xfrm>
            <a:off x="171360" y="1262160"/>
            <a:ext cx="3260880" cy="1895400"/>
          </a:xfrm>
          <a:prstGeom prst="rect">
            <a:avLst/>
          </a:prstGeom>
          <a:ln w="0">
            <a:noFill/>
          </a:ln>
        </p:spPr>
      </p:pic>
      <p:sp>
        <p:nvSpPr>
          <p:cNvPr id="99" name="TextBox 7"/>
          <p:cNvSpPr/>
          <p:nvPr/>
        </p:nvSpPr>
        <p:spPr>
          <a:xfrm>
            <a:off x="199440" y="750960"/>
            <a:ext cx="384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23-592-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ЕХНОЛОГИЧЕСКИХ ПЕРЕВОЗОК ГОРЯЧИХ СЛИТ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http://www.uvz.ru/i/att/i/r50t14i3334.png"/>
          <p:cNvPicPr/>
          <p:nvPr/>
        </p:nvPicPr>
        <p:blipFill>
          <a:blip r:embed="rId4"/>
          <a:stretch/>
        </p:blipFill>
        <p:spPr>
          <a:xfrm>
            <a:off x="3114720" y="4687920"/>
            <a:ext cx="3146400" cy="16462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9"/>
          <p:cNvSpPr/>
          <p:nvPr/>
        </p:nvSpPr>
        <p:spPr>
          <a:xfrm>
            <a:off x="3139920" y="3840120"/>
            <a:ext cx="2940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23-592-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ЕХНОЛОГИЧЕСКИХ ПЕРЕВОЗОК ГОРЯЧИХ СЛИТ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11" descr=""/>
          <p:cNvPicPr/>
          <p:nvPr/>
        </p:nvPicPr>
        <p:blipFill>
          <a:blip r:embed="rId5"/>
          <a:stretch/>
        </p:blipFill>
        <p:spPr>
          <a:xfrm>
            <a:off x="6151680" y="4645080"/>
            <a:ext cx="2846160" cy="19810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2"/>
          <p:cNvSpPr/>
          <p:nvPr/>
        </p:nvSpPr>
        <p:spPr>
          <a:xfrm>
            <a:off x="6269040" y="3933720"/>
            <a:ext cx="2874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23-516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еревозки длинномерных профилей из алюминиевых сплав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На главную"/>
          <p:cNvPicPr/>
          <p:nvPr/>
        </p:nvPicPr>
        <p:blipFill>
          <a:blip r:embed="rId6"/>
          <a:stretch/>
        </p:blipFill>
        <p:spPr>
          <a:xfrm>
            <a:off x="5219640" y="239760"/>
            <a:ext cx="1397160" cy="641160"/>
          </a:xfrm>
          <a:prstGeom prst="rect">
            <a:avLst/>
          </a:prstGeom>
          <a:ln w="0">
            <a:noFill/>
          </a:ln>
        </p:spPr>
      </p:pic>
      <p:sp>
        <p:nvSpPr>
          <p:cNvPr id="105" name="Заголовок 1"/>
          <p:cNvSpPr/>
          <p:nvPr/>
        </p:nvSpPr>
        <p:spPr>
          <a:xfrm>
            <a:off x="108000" y="239760"/>
            <a:ext cx="52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  <a:ea typeface="Tahoma"/>
              </a:rPr>
              <a:t>Вагоны для металлург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14"/>
          <p:cNvSpPr/>
          <p:nvPr/>
        </p:nvSpPr>
        <p:spPr>
          <a:xfrm>
            <a:off x="468360" y="690480"/>
            <a:ext cx="4476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4" descr=""/>
          <p:cNvPicPr/>
          <p:nvPr/>
        </p:nvPicPr>
        <p:blipFill>
          <a:blip r:embed="rId7"/>
          <a:stretch/>
        </p:blipFill>
        <p:spPr>
          <a:xfrm>
            <a:off x="7788240" y="0"/>
            <a:ext cx="1355760" cy="125568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5" descr="23-5162.jpg"/>
          <p:cNvPicPr/>
          <p:nvPr/>
        </p:nvPicPr>
        <p:blipFill>
          <a:blip r:embed="rId8"/>
          <a:stretch/>
        </p:blipFill>
        <p:spPr>
          <a:xfrm>
            <a:off x="6443640" y="2122560"/>
            <a:ext cx="2521080" cy="159372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90000"/>
              </a:srgbClr>
            </a:outerShdw>
          </a:effectLst>
        </p:spPr>
      </p:pic>
      <p:sp>
        <p:nvSpPr>
          <p:cNvPr id="109" name="Прямоугольник 16"/>
          <p:cNvSpPr/>
          <p:nvPr/>
        </p:nvSpPr>
        <p:spPr>
          <a:xfrm>
            <a:off x="6372360" y="1341360"/>
            <a:ext cx="277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ВАГОН-ПЛАТФОРМА 23-51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ЛЯ ПЕРЕВОЗКИ ГОРЯЧЕЙ СЛЯБОВОЙ ЗАГОТОВ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1705-CD0D-49AF-ABAB-64CFC82488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На главную"/>
          <p:cNvPicPr/>
          <p:nvPr/>
        </p:nvPicPr>
        <p:blipFill>
          <a:blip r:embed="rId1"/>
          <a:stretch/>
        </p:blipFill>
        <p:spPr>
          <a:xfrm>
            <a:off x="5219640" y="239760"/>
            <a:ext cx="1397160" cy="64116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ая соединительная линия 8"/>
          <p:cNvSpPr/>
          <p:nvPr/>
        </p:nvSpPr>
        <p:spPr>
          <a:xfrm>
            <a:off x="468360" y="690480"/>
            <a:ext cx="4476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108000" y="239760"/>
            <a:ext cx="52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  <a:ea typeface="Tahoma"/>
              </a:rPr>
              <a:t>Вагоны для металлург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4" descr=""/>
          <p:cNvPicPr/>
          <p:nvPr/>
        </p:nvPicPr>
        <p:blipFill>
          <a:blip r:embed="rId2"/>
          <a:stretch/>
        </p:blipFill>
        <p:spPr>
          <a:xfrm>
            <a:off x="7788240" y="0"/>
            <a:ext cx="1355760" cy="12556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2" descr="23-5164.jpg"/>
          <p:cNvPicPr/>
          <p:nvPr/>
        </p:nvPicPr>
        <p:blipFill>
          <a:blip r:embed="rId3"/>
          <a:srcRect l="6385" t="12953" r="4255" b="0"/>
          <a:stretch/>
        </p:blipFill>
        <p:spPr>
          <a:xfrm>
            <a:off x="539640" y="1773360"/>
            <a:ext cx="3070440" cy="19652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90000"/>
              </a:srgbClr>
            </a:outerShdw>
          </a:effectLst>
        </p:spPr>
      </p:pic>
      <p:sp>
        <p:nvSpPr>
          <p:cNvPr id="116" name="Прямоугольник 13"/>
          <p:cNvSpPr/>
          <p:nvPr/>
        </p:nvSpPr>
        <p:spPr>
          <a:xfrm>
            <a:off x="0" y="112536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МОДЕЛИ 23-51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ЕРЕВОЗКИ ГОРЯЧЕЙ СЛЯБОВОЙ ЗАГОТОВКИ  по заводским подъездным пу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14" descr=""/>
          <p:cNvPicPr/>
          <p:nvPr/>
        </p:nvPicPr>
        <p:blipFill>
          <a:blip r:embed="rId4"/>
          <a:srcRect l="3027" t="0" r="3027" b="0"/>
          <a:stretch/>
        </p:blipFill>
        <p:spPr>
          <a:xfrm>
            <a:off x="5435640" y="1773360"/>
            <a:ext cx="2959200" cy="217800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15"/>
          <p:cNvSpPr/>
          <p:nvPr/>
        </p:nvSpPr>
        <p:spPr>
          <a:xfrm>
            <a:off x="4572000" y="134136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ециализированная платформа Штрипсовоз д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возки широкоформатного листа  Разработка в 2015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6"/>
          <p:cNvSpPr/>
          <p:nvPr/>
        </p:nvSpPr>
        <p:spPr>
          <a:xfrm>
            <a:off x="179280" y="386064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атформа для перевозки технологического инструмента модель 23-5176 (в наст. время разрабатывается для ВСМПО-АВИСМ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17" descr=""/>
          <p:cNvPicPr/>
          <p:nvPr/>
        </p:nvPicPr>
        <p:blipFill>
          <a:blip r:embed="rId5"/>
          <a:srcRect l="10272" t="0" r="10272" b="0"/>
          <a:stretch/>
        </p:blipFill>
        <p:spPr>
          <a:xfrm>
            <a:off x="611280" y="4365720"/>
            <a:ext cx="3097080" cy="2158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6"/>
          <a:stretch/>
        </p:blipFill>
        <p:spPr>
          <a:xfrm>
            <a:off x="5148360" y="4581360"/>
            <a:ext cx="3620880" cy="20736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19"/>
          <p:cNvSpPr/>
          <p:nvPr/>
        </p:nvSpPr>
        <p:spPr>
          <a:xfrm>
            <a:off x="4932360" y="4076640"/>
            <a:ext cx="39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оппер-окатышевоз разработка в 2015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CC94-6241-413F-A2A6-650CB6FD09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E10F-55A3-463A-92AC-9AAE0D7545FD}" type="slidenum">
              <a:rPr b="0" lang="ru-RU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920" y="218880"/>
            <a:ext cx="71294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  <a:ea typeface="Tahoma"/>
              </a:rPr>
              <a:t>Вагоны для тяжеловесного движения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3059280" y="5719680"/>
            <a:ext cx="31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гоны с осевой нагрузкой 27 т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зоподъемность - 83 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8"/>
          <p:cNvSpPr/>
          <p:nvPr/>
        </p:nvSpPr>
        <p:spPr>
          <a:xfrm>
            <a:off x="28080" y="5719680"/>
            <a:ext cx="289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гоны с осевой нагрузкой 25 т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зоподъемность-75 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9" descr="IMG_1243"/>
          <p:cNvPicPr/>
          <p:nvPr/>
        </p:nvPicPr>
        <p:blipFill>
          <a:blip r:embed="rId1"/>
          <a:stretch/>
        </p:blipFill>
        <p:spPr>
          <a:xfrm>
            <a:off x="3203640" y="1773360"/>
            <a:ext cx="2520720" cy="18907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6227640" y="1897200"/>
            <a:ext cx="2374920" cy="1942920"/>
          </a:xfrm>
          <a:prstGeom prst="rect">
            <a:avLst/>
          </a:prstGeom>
          <a:solidFill>
            <a:srgbClr val="0ad4c1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7"/>
          <p:cNvSpPr/>
          <p:nvPr/>
        </p:nvSpPr>
        <p:spPr>
          <a:xfrm>
            <a:off x="6151680" y="4149720"/>
            <a:ext cx="299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гон с осевой нагрузкой 30 т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зоподъемность - 90 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1" descr="инновационный полувагон ОВК_25 тс_модель 12-9853"/>
          <p:cNvPicPr/>
          <p:nvPr/>
        </p:nvPicPr>
        <p:blipFill>
          <a:blip r:embed="rId2"/>
          <a:stretch/>
        </p:blipFill>
        <p:spPr>
          <a:xfrm>
            <a:off x="179280" y="1773360"/>
            <a:ext cx="2772000" cy="1771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инновационный хоппер-минераловоз ОВК_25 тс_модель 19-9870"/>
          <p:cNvPicPr/>
          <p:nvPr/>
        </p:nvPicPr>
        <p:blipFill>
          <a:blip r:embed="rId3"/>
          <a:stretch/>
        </p:blipFill>
        <p:spPr>
          <a:xfrm>
            <a:off x="179280" y="3879720"/>
            <a:ext cx="2739960" cy="16369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3"/>
          <p:cNvSpPr/>
          <p:nvPr/>
        </p:nvSpPr>
        <p:spPr>
          <a:xfrm>
            <a:off x="179280" y="11253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ксплуатиру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3203640" y="1197000"/>
            <a:ext cx="26636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Разрабатываю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и испытыва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6300720" y="1249200"/>
            <a:ext cx="244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Не разрабатываются, не испытыва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6" descr="Фото172 (3)"/>
          <p:cNvPicPr/>
          <p:nvPr/>
        </p:nvPicPr>
        <p:blipFill>
          <a:blip r:embed="rId4"/>
          <a:stretch/>
        </p:blipFill>
        <p:spPr>
          <a:xfrm>
            <a:off x="3203640" y="3699000"/>
            <a:ext cx="2520720" cy="18907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4" descr=""/>
          <p:cNvPicPr/>
          <p:nvPr/>
        </p:nvPicPr>
        <p:blipFill>
          <a:blip r:embed="rId5"/>
          <a:stretch/>
        </p:blipFill>
        <p:spPr>
          <a:xfrm>
            <a:off x="7765920" y="2232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ая соединительная линия 15"/>
          <p:cNvSpPr/>
          <p:nvPr/>
        </p:nvSpPr>
        <p:spPr>
          <a:xfrm>
            <a:off x="743040" y="804960"/>
            <a:ext cx="5700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3"/>
          <p:cNvSpPr/>
          <p:nvPr/>
        </p:nvSpPr>
        <p:spPr>
          <a:xfrm>
            <a:off x="701028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A4F4-5DC7-4CC4-B064-07F1FDC5FF5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Диаграмма 4" descr=""/>
          <p:cNvPicPr/>
          <p:nvPr/>
        </p:nvPicPr>
        <p:blipFill>
          <a:blip r:embed="rId1"/>
          <a:stretch/>
        </p:blipFill>
        <p:spPr>
          <a:xfrm>
            <a:off x="603360" y="255600"/>
            <a:ext cx="8040600" cy="3828960"/>
          </a:xfrm>
          <a:prstGeom prst="rect">
            <a:avLst/>
          </a:prstGeom>
          <a:ln w="0">
            <a:noFill/>
          </a:ln>
        </p:spPr>
      </p:pic>
      <p:pic>
        <p:nvPicPr>
          <p:cNvPr id="141" name="Диаграмма 5" descr=""/>
          <p:cNvPicPr/>
          <p:nvPr/>
        </p:nvPicPr>
        <p:blipFill>
          <a:blip r:embed="rId2"/>
          <a:stretch/>
        </p:blipFill>
        <p:spPr>
          <a:xfrm>
            <a:off x="103320" y="3949560"/>
            <a:ext cx="4475160" cy="2914920"/>
          </a:xfrm>
          <a:prstGeom prst="rect">
            <a:avLst/>
          </a:prstGeom>
          <a:ln w="0">
            <a:noFill/>
          </a:ln>
        </p:spPr>
      </p:pic>
      <p:pic>
        <p:nvPicPr>
          <p:cNvPr id="142" name="Диаграмма 7" descr=""/>
          <p:cNvPicPr/>
          <p:nvPr/>
        </p:nvPicPr>
        <p:blipFill>
          <a:blip r:embed="rId3"/>
          <a:stretch/>
        </p:blipFill>
        <p:spPr>
          <a:xfrm>
            <a:off x="4565520" y="3949560"/>
            <a:ext cx="4584960" cy="291492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4" descr=""/>
          <p:cNvPicPr/>
          <p:nvPr/>
        </p:nvPicPr>
        <p:blipFill>
          <a:blip r:embed="rId4"/>
          <a:stretch/>
        </p:blipFill>
        <p:spPr>
          <a:xfrm>
            <a:off x="7765920" y="22320"/>
            <a:ext cx="13557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6T15:22:12Z</dcterms:created>
  <dc:creator>Золотарев Станислав Владимирович</dc:creator>
  <dc:description/>
  <dc:language>en-US</dc:language>
  <cp:lastModifiedBy>Варенов</cp:lastModifiedBy>
  <dcterms:modified xsi:type="dcterms:W3CDTF">2014-11-12T07:32:50Z</dcterms:modified>
  <cp:revision>69</cp:revision>
  <dc:subject/>
  <dc:title>Презентация PowerPoint</dc:title>
</cp:coreProperties>
</file>