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768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768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1CBC-D7E7-43FA-B656-8C78CCF313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48EB-49FB-407F-B6DE-28D12AC057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964F-6348-4A8D-8AC4-82923AF0B4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338D-D890-4D09-A632-79B55D6119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2377C9E-84CD-4AE7-A7CA-D21716D279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1929-5203-4C81-A201-3A68707B74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3C2A-459C-4576-831E-AC39898631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C542-3C63-4CF5-8321-72A398FCC7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8989-865E-4B24-AB5C-84A6EC604E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F2C4-6DED-4E16-B979-997228A11A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B313-BB00-42DE-BAE5-399005559D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99C7-3C1F-454C-814D-1A69FB1634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3647-BA85-4D15-ABB9-62BEB70A4F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5383-FEE1-417F-A9E0-36A6E777F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228A-1EBF-4BAC-966E-7082A06A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B70B-37D9-44B0-ABB1-72AEF7364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2C76-7F3B-4738-A4CD-BE8250975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DCED-798E-4E79-BBF2-DB76AACC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75E9-D9A8-4D50-A7F5-224F9901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7E1F-2E70-4122-8BDB-04686867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9BF1-63DE-4821-9C0C-23EFA643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EA65-D815-41C8-93FB-9C4352D7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48DC-EF04-4FC9-BA8D-BC21ACEE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B84A-93DF-4205-951D-2A653AEB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1CD0-E467-4569-A795-168BFF3F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F9AF-97D3-46B4-AF47-68F1C89BB5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3478680" y="6248520"/>
            <a:ext cx="2170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12</a:t>
            </a:r>
            <a:r>
              <a:rPr b="1" lang="en-US" sz="1800" spc="-1" strike="noStrike">
                <a:solidFill>
                  <a:srgbClr val="7f7f7f"/>
                </a:solidFill>
                <a:latin typeface="Lucida Sans"/>
              </a:rPr>
              <a:t> </a:t>
            </a: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ноября </a:t>
            </a:r>
            <a:r>
              <a:rPr b="1" lang="en-US" sz="1800" spc="-1" strike="noStrike">
                <a:solidFill>
                  <a:srgbClr val="7f7f7f"/>
                </a:solidFill>
                <a:latin typeface="Lucida Sans"/>
              </a:rPr>
              <a:t>201</a:t>
            </a: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0" y="1447920"/>
            <a:ext cx="9144000" cy="45720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36320" y="1909800"/>
            <a:ext cx="6705720" cy="27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 тарифных и нетарифных факторах ценового давления на грузовладель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металлургия 2"/>
          <p:cNvPicPr/>
          <p:nvPr/>
        </p:nvPicPr>
        <p:blipFill>
          <a:blip r:embed="rId1"/>
          <a:srcRect l="0" t="6842" r="0" b="5797"/>
          <a:stretch/>
        </p:blipFill>
        <p:spPr>
          <a:xfrm>
            <a:off x="237960" y="1523880"/>
            <a:ext cx="1752840" cy="139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рулон 2"/>
          <p:cNvPicPr/>
          <p:nvPr/>
        </p:nvPicPr>
        <p:blipFill>
          <a:blip r:embed="rId2"/>
          <a:srcRect l="0" t="0" r="8718" b="6936"/>
          <a:stretch/>
        </p:blipFill>
        <p:spPr>
          <a:xfrm>
            <a:off x="219240" y="3048120"/>
            <a:ext cx="1752480" cy="1401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руссталь"/>
          <p:cNvPicPr/>
          <p:nvPr/>
        </p:nvPicPr>
        <p:blipFill>
          <a:blip r:embed="rId3"/>
          <a:stretch/>
        </p:blipFill>
        <p:spPr>
          <a:xfrm>
            <a:off x="7010280" y="304920"/>
            <a:ext cx="193212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4"/>
          <a:stretch/>
        </p:blipFill>
        <p:spPr>
          <a:xfrm>
            <a:off x="228600" y="4572000"/>
            <a:ext cx="17524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14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3710-358D-4428-A4E3-77B6E514D63E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Куда пойдет вагонная составляюща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2"/>
          <a:stretch/>
        </p:blipFill>
        <p:spPr>
          <a:xfrm>
            <a:off x="324000" y="1093680"/>
            <a:ext cx="82296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21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FAE3-E3B0-452E-AEC8-60397F0B10BB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Совокупные транспортные затраты по методологии операт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304920" y="1143000"/>
            <a:ext cx="86104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 чем забыли с 2012 го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«Плата за нерастороп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Логконтроли на порожний проб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Технология работы металлургических комбинатов из-под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двоенных опер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Порты – не единственные места массовой выгру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вод: «каникулы» по штрафным санкциям со стороны операторских компаний заканчиваются, а вопросы сдачи избыточного порожнего подвижного состава на сеть по-прежнему не реш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1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28" name="Номер слайда 12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260C-4E5E-490D-AFF3-B8A80E72ABB9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304920" y="43668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Факторы ценового давления на грузовладельцев в 2015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304920" y="1143000"/>
            <a:ext cx="8610480" cy="41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гативные для грузовладельцев тенден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Четко прослеживающаяся тенденция на увеличение тарифов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.н. «регулируемом» сегмен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«Мягкий» рост вагонной составляющей в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вартале 2015 год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явным ускорением начиная со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варт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Скорость как фактор ц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омер слайда 12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4686-E1D0-4D8D-A5B4-3A04FA93F712}" type="slidenum">
              <a:rPr b="0" lang="ru-RU" sz="12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7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6"/>
          <p:cNvSpPr/>
          <p:nvPr/>
        </p:nvSpPr>
        <p:spPr>
          <a:xfrm>
            <a:off x="0" y="1600200"/>
            <a:ext cx="9144000" cy="43434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Заголовок 2"/>
          <p:cNvSpPr/>
          <p:nvPr/>
        </p:nvSpPr>
        <p:spPr>
          <a:xfrm>
            <a:off x="2362320" y="2819520"/>
            <a:ext cx="6553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АСИБО ЗА ВНИМАНИЕ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металлургия 2"/>
          <p:cNvPicPr/>
          <p:nvPr/>
        </p:nvPicPr>
        <p:blipFill>
          <a:blip r:embed="rId2"/>
          <a:srcRect l="0" t="6842" r="0" b="5797"/>
          <a:stretch/>
        </p:blipFill>
        <p:spPr>
          <a:xfrm>
            <a:off x="237960" y="1600200"/>
            <a:ext cx="1752840" cy="1398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рулон 2"/>
          <p:cNvPicPr/>
          <p:nvPr/>
        </p:nvPicPr>
        <p:blipFill>
          <a:blip r:embed="rId3"/>
          <a:srcRect l="0" t="0" r="8718" b="6936"/>
          <a:stretch/>
        </p:blipFill>
        <p:spPr>
          <a:xfrm>
            <a:off x="219240" y="3124080"/>
            <a:ext cx="1752480" cy="1401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4"/>
          <a:stretch/>
        </p:blipFill>
        <p:spPr>
          <a:xfrm>
            <a:off x="228600" y="4626000"/>
            <a:ext cx="17524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1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58" name="Номер слайда 12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C028-A386-4739-8A4A-E6E097FB07F2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Факторы ценового д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304920" y="1143000"/>
            <a:ext cx="861048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т тарифов как регулируемой со стороны государства платы за услуги ОАО «РЖ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Ожидаемый рост вагонной составляю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Технологические факторы, оказывающие косвенное, но серьезное влияние на совокупные транспортные затраты грузовладельц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64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430E-1A1F-418D-BFD0-3042EBD47C40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Индексация – 2015 и долгосрочное тарифо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304920" y="11430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нировавшаяся траектории индексации железнодорожных тарифов на период с 2014 по 201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C:\Русская Сталь\12 ноября\1.png"/>
          <p:cNvPicPr/>
          <p:nvPr/>
        </p:nvPicPr>
        <p:blipFill>
          <a:blip r:embed="rId2"/>
          <a:stretch/>
        </p:blipFill>
        <p:spPr>
          <a:xfrm>
            <a:off x="685800" y="1828800"/>
            <a:ext cx="702324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72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9BEE-03B4-4C23-ACA9-8AEC50641071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Индексация – 2015 и долгосрочное тарифо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304920" y="11430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может быть с траекторией индексации железнодорожных тарифов на период с 2014 по 201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C:\Русская Сталь\12 ноября\2.png"/>
          <p:cNvPicPr/>
          <p:nvPr/>
        </p:nvPicPr>
        <p:blipFill>
          <a:blip r:embed="rId2"/>
          <a:stretch/>
        </p:blipFill>
        <p:spPr>
          <a:xfrm>
            <a:off x="685800" y="1752480"/>
            <a:ext cx="685800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BEC6-94AE-46E0-9B29-71633A187BD0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Пример сравнения роста тарифа и цены на готовую продукцию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609480" y="961920"/>
            <a:ext cx="792504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87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7313-E8FF-4307-BDEC-6C0A1ECECE70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Пример сравнения роста транспортной составляющ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304920" y="1057320"/>
            <a:ext cx="84740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94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0734-BB05-4BAF-9CC7-B6EA8E92BFD2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Скрытые факторы роста тарифов и цен – часть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304920" y="1143000"/>
            <a:ext cx="861048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«регулируемый» сегмент превращаетс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«так называемый регулируемый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на существующей сети железных дорог скоростного и высокоскоростного пассажирского движения, замедление оборота ваг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риоритетный пропуск контейнерных поездов, в том числе в рамках проекта «Транссиб за 7 сут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Заложенная в т.н. «тарифном коридоре» концепция «золотого километ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Новая технология ремонта инфраструктуры в т.н. режиме «закрытых перегонов» или же «глухих окон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01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95F1-5F3E-4440-BC1A-A1A3737C31DE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Скрытые факторы роста тарифов и цен – часть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304920" y="1143000"/>
            <a:ext cx="8610480" cy="43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«регулируемый» сегмент превращаетс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«так называемый регулируемый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Отказ от тарификации грузовых перевозок по кратчайшему расстоя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Технология перевозок по «твердым ниткам графика» (по расписанию, с согласованным временем отправления и прибыт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Продление сроков доставки в направлении отечественных по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1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08" name="Номер слайда 12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82AC-1FBD-4BCB-A768-D547EE9BD3A0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304920" y="43668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Вагонная составляющая в терминах биржевой торгов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304920" y="1143000"/>
            <a:ext cx="861048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едствия вступления в силу соответствующего Технического регламента Таможенного союза и Постановления Правительства РФ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Постепенное снижение предложения на рынке из-за фактического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прета на продление сроков службы ваго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Линии сопротивления – сервисные контракты крупных холдинговых структур, поквартальное ценообра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Обманчивый боковой трен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Сезонное «сжатие» спроса на перевозки в зимний период не позволит серьезно «разогреть» вагонную составляющую (ставки суточной аренды и ставки на предоставление подвижного состава под погрузку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Ожидаемый «пробой» рынка вверх в преддверии весеннего оживления спроса на перевоз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ывод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I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вартал 2014 года и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вартал 2015 года – «затишье перед бур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орис</dc:creator>
  <dc:description/>
  <dc:language>en-US</dc:language>
  <cp:lastModifiedBy>Тюфаев Алексей Михайлович</cp:lastModifiedBy>
  <cp:lastPrinted>2011-05-10T05:31:58Z</cp:lastPrinted>
  <dcterms:modified xsi:type="dcterms:W3CDTF">2014-11-05T09:43:18Z</dcterms:modified>
  <cp:revision>7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