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768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9488-A24E-4DA6-9262-A0E58F1EBB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3F53-203E-4C8F-9D30-4009FABDB1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4933-BF18-470F-8FB3-0B8A1246CC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F99C-4A0D-408F-B18F-BC29D89E86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9B65C6F-21E5-42A1-BF50-83196AC600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F3A4-3D15-4539-B8E5-428244E57D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6305-704A-4FD6-9373-6994DE3CB9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76EE-D05C-4EDB-A3F7-D281249D91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4D23-0CAE-4624-A92C-30BAA4256A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7659-8E33-4D50-B1CC-7A7705EC85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9A62-1B67-415A-94BC-B78F01C537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96DD-AFF4-44FA-A95B-DA30FA5631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5EC0-1125-4928-8FA1-9A5E1F47FB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ECAE-987D-40C1-BF9A-2C6D1DB9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0397-A831-4CD5-A60E-67F7DB56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87F8-ECE9-442E-A6E5-642AC5AB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AEE3-8FE3-440C-BAB4-E64BB183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2B56-D703-484E-9016-E6A306F4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83A-B4B0-4AAC-B218-F4424540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A398-D527-432F-89CF-504A898A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45D1-4970-4AB1-890D-5B3DEE94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D38B-B016-4264-BCD4-89BD57B9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A541-2E8B-45D0-A582-913FC607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69C7-019A-4284-8AFC-75C6D054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B70C-C4CB-4FB9-9FEF-56930583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7089-8272-4B9F-B432-9E31000FCA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478680" y="6248520"/>
            <a:ext cx="2170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12</a:t>
            </a:r>
            <a:r>
              <a:rPr b="1" lang="en-US" sz="1800" spc="-1" strike="noStrike">
                <a:solidFill>
                  <a:srgbClr val="7f7f7f"/>
                </a:solidFill>
                <a:latin typeface="Lucida Sans"/>
              </a:rPr>
              <a:t> </a:t>
            </a: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ноября </a:t>
            </a:r>
            <a:r>
              <a:rPr b="1" lang="en-US" sz="1800" spc="-1" strike="noStrike">
                <a:solidFill>
                  <a:srgbClr val="7f7f7f"/>
                </a:solidFill>
                <a:latin typeface="Lucida Sans"/>
              </a:rPr>
              <a:t>201</a:t>
            </a: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6320" y="1909800"/>
            <a:ext cx="6705720" cy="27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 тарифных и нетарифных факторах ценового давления на грузовладель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металлургия 2"/>
          <p:cNvPicPr/>
          <p:nvPr/>
        </p:nvPicPr>
        <p:blipFill>
          <a:blip r:embed="rId1"/>
          <a:srcRect l="0" t="6842" r="0" b="5797"/>
          <a:stretch/>
        </p:blipFill>
        <p:spPr>
          <a:xfrm>
            <a:off x="237960" y="152388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рулон 2"/>
          <p:cNvPicPr/>
          <p:nvPr/>
        </p:nvPicPr>
        <p:blipFill>
          <a:blip r:embed="rId2"/>
          <a:srcRect l="0" t="0" r="8718" b="6936"/>
          <a:stretch/>
        </p:blipFill>
        <p:spPr>
          <a:xfrm>
            <a:off x="219240" y="3048120"/>
            <a:ext cx="1752480" cy="1401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руссталь"/>
          <p:cNvPicPr/>
          <p:nvPr/>
        </p:nvPicPr>
        <p:blipFill>
          <a:blip r:embed="rId3"/>
          <a:stretch/>
        </p:blipFill>
        <p:spPr>
          <a:xfrm>
            <a:off x="7010280" y="304920"/>
            <a:ext cx="193212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17524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548F-DE03-472B-8FF9-3874169EEEAD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Куда пойдет вагонная составляющ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2"/>
          <a:stretch/>
        </p:blipFill>
        <p:spPr>
          <a:xfrm>
            <a:off x="324000" y="1093680"/>
            <a:ext cx="82296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21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599E-6C04-4EBA-AB6A-BC6CE66AB872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овокупные транспортные затраты по методологии опера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304920" y="1143000"/>
            <a:ext cx="86104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чем забыли с 2012 го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«Плата за нерастороп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Логконтроли на порожний проб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ехнология работы металлургических комбинатов из-под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военны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орты – не единственные места массовой выгру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д: «каникулы» по штрафным санкциям со стороны операторских компаний заканчиваются, а вопросы сдачи избыточного порожнего подвижного состава на сеть по-прежнему не реш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2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3628-68F0-44E7-8F26-4506201E2E49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304920" y="4366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Факторы ценового давления на грузовладельцев в 2015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304920" y="1143000"/>
            <a:ext cx="861048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гативные для грузовладельцев тенд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Четко прослеживающаяся тенденция на увеличение тариф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.н. «регулируемом» сегме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«Мягкий» рост вагонной составляющей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вартале 2015 год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явным ускорением начиная с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варт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корость как фактор ц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8252-694D-41C3-AC55-7E4FFF9DC758}" type="slidenum">
              <a:rPr b="0" lang="ru-RU" sz="12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7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6"/>
          <p:cNvSpPr/>
          <p:nvPr/>
        </p:nvSpPr>
        <p:spPr>
          <a:xfrm>
            <a:off x="0" y="1600200"/>
            <a:ext cx="9144000" cy="434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2"/>
          <p:cNvSpPr/>
          <p:nvPr/>
        </p:nvSpPr>
        <p:spPr>
          <a:xfrm>
            <a:off x="2362320" y="2819520"/>
            <a:ext cx="6553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металлургия 2"/>
          <p:cNvPicPr/>
          <p:nvPr/>
        </p:nvPicPr>
        <p:blipFill>
          <a:blip r:embed="rId2"/>
          <a:srcRect l="0" t="6842" r="0" b="5797"/>
          <a:stretch/>
        </p:blipFill>
        <p:spPr>
          <a:xfrm>
            <a:off x="237960" y="160020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рулон 2"/>
          <p:cNvPicPr/>
          <p:nvPr/>
        </p:nvPicPr>
        <p:blipFill>
          <a:blip r:embed="rId3"/>
          <a:srcRect l="0" t="0" r="8718" b="6936"/>
          <a:stretch/>
        </p:blipFill>
        <p:spPr>
          <a:xfrm>
            <a:off x="219240" y="3124080"/>
            <a:ext cx="1752480" cy="1401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4"/>
          <a:stretch/>
        </p:blipFill>
        <p:spPr>
          <a:xfrm>
            <a:off x="228600" y="4626000"/>
            <a:ext cx="17524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5DA4-D994-45E1-92A7-486E3E497E25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Факторы ценового д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304920" y="1143000"/>
            <a:ext cx="861048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 тарифов как регулируемой со стороны государства платы за услуги ОАО «РЖ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Ожидаемый рост вагонной составляю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ехнологические факторы, оказывающие косвенное, но серьезное влияние на совокупные транспортные затраты грузовладель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655F-2642-47A0-AE6D-92657306B18D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Индексация – 2015 и долгосрочное тарифо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304920" y="11430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овавшаяся траектории индексации железнодорожных тарифов на период с 2014 по 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:\Русская Сталь\12 ноября\1.png"/>
          <p:cNvPicPr/>
          <p:nvPr/>
        </p:nvPicPr>
        <p:blipFill>
          <a:blip r:embed="rId2"/>
          <a:stretch/>
        </p:blipFill>
        <p:spPr>
          <a:xfrm>
            <a:off x="685800" y="1828800"/>
            <a:ext cx="70232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72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62C4-D755-4A61-8D0D-1EFC1175E391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Индексация – 2015 и долгосрочное тарифо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304920" y="11430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может быть с траекторией индексации железнодорожных тарифов на период с 2014 по 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:\Русская Сталь\12 ноября\2.png"/>
          <p:cNvPicPr/>
          <p:nvPr/>
        </p:nvPicPr>
        <p:blipFill>
          <a:blip r:embed="rId2"/>
          <a:stretch/>
        </p:blipFill>
        <p:spPr>
          <a:xfrm>
            <a:off x="685800" y="1752480"/>
            <a:ext cx="68580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19D4-4588-4CA0-99FB-0BD9D281D3FD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ример сравнения роста тарифа и цены на готовую продукцию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609480" y="961920"/>
            <a:ext cx="792504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87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6378-1176-437B-A178-12F2FDF7FDC9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ример сравнения роста транспортной составляю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304920" y="1057320"/>
            <a:ext cx="84740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9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219A-61CE-4325-83BB-FDED8372FF37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крытые факторы роста тарифов и цен – часть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304920" y="1143000"/>
            <a:ext cx="861048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«регулируемый» сегмент превращает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«так называемый регулируемый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 существующей сети железных дорог скоростного и высокоскоростного пассажирского движения, замедление оборота ваг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иоритетный пропуск контейнерных поездов, в том числе в рамках проекта «Транссиб за 7 сут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ложенная в т.н. «тарифном коридоре» концепция «золотого километ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Новая технология ремонта инфраструктуры в т.н. режиме «закрытых перегонов» или же «глухих окон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01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ECA4-9DB5-457B-B336-C99AB08AD6B3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крытые факторы роста тарифов и цен – част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304920" y="1143000"/>
            <a:ext cx="861048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«регулируемый» сегмент превращает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«так называемый регулируемый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Отказ от тарификации грузовых перевозок по кратчайшему расстоя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Технология перевозок по «твердым ниткам графика» (по расписанию, с согласованным временем отправления и прибыт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родление сроков доставки в направлении отечественных по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0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F1FE-98DC-49A9-83AE-571A8E24597E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304920" y="4366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Вагонная составляющая в терминах биржевой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304920" y="1143000"/>
            <a:ext cx="861048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дствия вступления в силу соответствующего Технического регламента Таможенного союза и Постановления Правительства РФ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Постепенное снижение предложения на рынке из-за фактического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рета на продление сроков службы ваго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Линии сопротивления – сервисные контракты крупных холдинговых структур, поквартальное цено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Обманчивый боковой трен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Сезонное «сжатие» спроса на перевозки в зимний период не позволит серьезно «разогреть» вагонную составляющую (ставки суточной аренды и ставки на предоставление подвижного состава под погрузку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Ожидаемый «пробой» рынка вверх в преддверии весеннего оживления спроса на перево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вод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I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вартал 2014 года 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вартал 2015 года – «затишье перед бур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орис</dc:creator>
  <dc:description/>
  <dc:language>en-US</dc:language>
  <cp:lastModifiedBy>Тюфаев Алексей Михайлович</cp:lastModifiedBy>
  <cp:lastPrinted>2011-05-10T05:31:58Z</cp:lastPrinted>
  <dcterms:modified xsi:type="dcterms:W3CDTF">2014-11-05T09:43:18Z</dcterms:modified>
  <cp:revision>7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